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9.png" ContentType="image/png"/>
  <Override PartName="/ppt/media/image46.png" ContentType="image/png"/>
  <Override PartName="/ppt/media/image50.jpeg" ContentType="image/jpeg"/>
  <Override PartName="/ppt/media/image13.png" ContentType="image/png"/>
  <Override PartName="/ppt/media/image11.png" ContentType="image/png"/>
  <Override PartName="/ppt/media/image48.png" ContentType="image/png"/>
  <Override PartName="/ppt/media/image44.wmf" ContentType="image/x-wmf"/>
  <Override PartName="/ppt/media/image45.png" ContentType="image/png"/>
  <Override PartName="/ppt/media/image51.jpeg" ContentType="image/jpe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47.jpeg" ContentType="image/jpeg"/>
  <Override PartName="/ppt/media/image52.jpeg" ContentType="image/jpeg"/>
  <Override PartName="/ppt/media/image55.png" ContentType="image/png"/>
  <Override PartName="/ppt/media/image56.png" ContentType="image/png"/>
  <Override PartName="/ppt/media/image41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2" end="7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ABD5-7C6C-4145-A5E1-8B4835BF5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7C2A-1CCE-4548-9F7C-BAAD5C37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E83A-6B76-490F-8120-7D9E56CD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AEF4-7BBF-4390-B4ED-BA2414D2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86B5-3104-491D-8777-63C83A40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2DAB-4B69-4403-90B2-87F8BD0C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88BD-32AB-44C1-8DAE-10264FAA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EA93-FFC5-4A38-ABF5-3C34774C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E3B3-929D-4F8E-8435-0D306F68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8998-3479-4C32-8AF9-62CE0BC9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5139-28DF-4550-96E9-CA75374F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3C6E-992D-48CA-9BFD-53A3881F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FDBF-9C03-49D9-AC70-BC768D9E1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9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9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2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40.png"/><Relationship Id="rId5" Type="http://schemas.openxmlformats.org/officeDocument/2006/relationships/image" Target="../media/image25.png"/><Relationship Id="rId6" Type="http://schemas.openxmlformats.org/officeDocument/2006/relationships/image" Target="../media/image40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45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6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54.png"/><Relationship Id="rId6" Type="http://schemas.openxmlformats.org/officeDocument/2006/relationships/image" Target="../media/image54.png"/><Relationship Id="rId7" Type="http://schemas.openxmlformats.org/officeDocument/2006/relationships/image" Target="../media/image54.png"/><Relationship Id="rId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684360" y="836640"/>
            <a:ext cx="7704000" cy="37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Для нача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занят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нажмите F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431640" y="5157720"/>
            <a:ext cx="820908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(Только для Windows XP!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4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5"/>
          <p:cNvSpPr/>
          <p:nvPr/>
        </p:nvSpPr>
        <p:spPr>
          <a:xfrm>
            <a:off x="366840" y="3435480"/>
            <a:ext cx="8496000" cy="1274760"/>
          </a:xfrm>
          <a:prstGeom prst="wedgeRoundRectCallout">
            <a:avLst>
              <a:gd name="adj1" fmla="val -31185"/>
              <a:gd name="adj2" fmla="val -1886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Шрифт можно выбирать как перед началом работы, так и изменять напечатанный текст, предварительно выделив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646200" y="1631880"/>
            <a:ext cx="385452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Лицей села Олуя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"/>
          <p:cNvSpPr/>
          <p:nvPr/>
        </p:nvSpPr>
        <p:spPr>
          <a:xfrm>
            <a:off x="2664000" y="279360"/>
            <a:ext cx="6019560" cy="933480"/>
          </a:xfrm>
          <a:prstGeom prst="wedgeRoundRectCallout">
            <a:avLst>
              <a:gd name="adj1" fmla="val -44013"/>
              <a:gd name="adj2" fmla="val 1938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ейчас выберите шрифт к выделенному тексту: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L Broadway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2"/>
          <a:srcRect l="22554" t="12031" r="25403" b="12145"/>
          <a:stretch/>
        </p:blipFill>
        <p:spPr>
          <a:xfrm>
            <a:off x="3963960" y="1363680"/>
            <a:ext cx="4759200" cy="5203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3"/>
          <a:srcRect l="33628" t="65417" r="32990" b="27087"/>
          <a:stretch/>
        </p:blipFill>
        <p:spPr>
          <a:xfrm>
            <a:off x="4762440" y="5288040"/>
            <a:ext cx="3052800" cy="515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">
            <a:hlinkClick r:id="" action="ppaction://hlinkshowjump?jump=nextslide"/>
          </p:cNvPr>
          <p:cNvPicPr/>
          <p:nvPr/>
        </p:nvPicPr>
        <p:blipFill>
          <a:blip r:embed="rId4"/>
          <a:srcRect l="25313" t="36063" r="54221" b="61764"/>
          <a:stretch/>
        </p:blipFill>
        <p:spPr>
          <a:xfrm>
            <a:off x="4218120" y="3003480"/>
            <a:ext cx="1871640" cy="149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"/>
          <p:cNvPicPr/>
          <p:nvPr/>
        </p:nvPicPr>
        <p:blipFill>
          <a:blip r:embed="rId5"/>
          <a:srcRect l="11371" t="28976" r="63736" b="63584"/>
          <a:stretch/>
        </p:blipFill>
        <p:spPr>
          <a:xfrm>
            <a:off x="573120" y="1666800"/>
            <a:ext cx="2276280" cy="511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"/>
          <p:cNvPicPr/>
          <p:nvPr/>
        </p:nvPicPr>
        <p:blipFill>
          <a:blip r:embed="rId6"/>
          <a:srcRect l="21581" t="4025" r="72958" b="93461"/>
          <a:stretch/>
        </p:blipFill>
        <p:spPr>
          <a:xfrm>
            <a:off x="1981080" y="270000"/>
            <a:ext cx="50004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rcRect l="10975" t="27420" r="56862" b="63584"/>
          <a:stretch/>
        </p:blipFill>
        <p:spPr>
          <a:xfrm>
            <a:off x="519120" y="1560600"/>
            <a:ext cx="2941560" cy="617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3"/>
          <a:srcRect l="24118" t="8391" r="24118" b="16372"/>
          <a:stretch/>
        </p:blipFill>
        <p:spPr>
          <a:xfrm>
            <a:off x="3962520" y="1382760"/>
            <a:ext cx="4733640" cy="515124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995400" y="279360"/>
            <a:ext cx="7113600" cy="611280"/>
          </a:xfrm>
          <a:prstGeom prst="wedgeRoundRectCallout">
            <a:avLst>
              <a:gd name="adj1" fmla="val -30296"/>
              <a:gd name="adj2" fmla="val -272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чертание – курси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">
            <a:hlinkClick r:id="" action="ppaction://hlinkshowjump?jump=nextslide"/>
          </p:cNvPr>
          <p:cNvPicPr/>
          <p:nvPr/>
        </p:nvPicPr>
        <p:blipFill>
          <a:blip r:embed="rId4"/>
          <a:srcRect l="51845" t="25946" r="35418" b="71811"/>
          <a:stretch/>
        </p:blipFill>
        <p:spPr>
          <a:xfrm>
            <a:off x="6505560" y="2579760"/>
            <a:ext cx="116532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rcRect l="23924" t="8353" r="24118" b="16088"/>
          <a:stretch/>
        </p:blipFill>
        <p:spPr>
          <a:xfrm>
            <a:off x="3943440" y="1360440"/>
            <a:ext cx="4751280" cy="51832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6"/>
          <p:cNvSpPr/>
          <p:nvPr/>
        </p:nvSpPr>
        <p:spPr>
          <a:xfrm>
            <a:off x="995400" y="279360"/>
            <a:ext cx="7113600" cy="611280"/>
          </a:xfrm>
          <a:prstGeom prst="wedgeRoundRectCallout">
            <a:avLst>
              <a:gd name="adj1" fmla="val -30296"/>
              <a:gd name="adj2" fmla="val -272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размер – 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>
            <a:hlinkClick r:id="" action="ppaction://hlinkshowjump?jump=nextslide"/>
          </p:cNvPr>
          <p:cNvPicPr/>
          <p:nvPr/>
        </p:nvPicPr>
        <p:blipFill>
          <a:blip r:embed="rId3"/>
          <a:srcRect l="69122" t="27874" r="28889" b="69978"/>
          <a:stretch/>
        </p:blipFill>
        <p:spPr>
          <a:xfrm>
            <a:off x="8085240" y="2717640"/>
            <a:ext cx="182520" cy="147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4"/>
          <a:srcRect l="5102" t="25871" r="63736" b="68076"/>
          <a:stretch/>
        </p:blipFill>
        <p:spPr>
          <a:xfrm>
            <a:off x="609480" y="1614600"/>
            <a:ext cx="2849760" cy="4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rcRect l="23924" t="8630" r="24132" b="16334"/>
          <a:stretch/>
        </p:blipFill>
        <p:spPr>
          <a:xfrm>
            <a:off x="3944880" y="1380960"/>
            <a:ext cx="4749840" cy="514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3"/>
          <a:srcRect l="9411" t="29014" r="67657" b="64164"/>
          <a:stretch/>
        </p:blipFill>
        <p:spPr>
          <a:xfrm>
            <a:off x="555480" y="1614600"/>
            <a:ext cx="2097360" cy="46836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7"/>
          <p:cNvSpPr/>
          <p:nvPr/>
        </p:nvSpPr>
        <p:spPr>
          <a:xfrm>
            <a:off x="995400" y="279360"/>
            <a:ext cx="6324480" cy="843120"/>
          </a:xfrm>
          <a:prstGeom prst="wedgeRoundRectCallout">
            <a:avLst>
              <a:gd name="adj1" fmla="val -27837"/>
              <a:gd name="adj2" fmla="val -1572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У Вас получается очень даже неплохо. Подтверд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">
            <a:hlinkClick r:id="" action="ppaction://hlinkshowjump?jump=nextslide"/>
          </p:cNvPr>
          <p:cNvPicPr/>
          <p:nvPr/>
        </p:nvPicPr>
        <p:blipFill>
          <a:blip r:embed="rId4"/>
          <a:srcRect l="54207" t="79112" r="36495" b="18186"/>
          <a:stretch/>
        </p:blipFill>
        <p:spPr>
          <a:xfrm>
            <a:off x="6715080" y="6211800"/>
            <a:ext cx="85104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rcRect l="36859" t="66362" r="33925" b="27301"/>
          <a:stretch/>
        </p:blipFill>
        <p:spPr>
          <a:xfrm>
            <a:off x="590400" y="1665360"/>
            <a:ext cx="2671920" cy="4348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6"/>
          <p:cNvSpPr/>
          <p:nvPr/>
        </p:nvSpPr>
        <p:spPr>
          <a:xfrm>
            <a:off x="995400" y="279360"/>
            <a:ext cx="6324480" cy="573120"/>
          </a:xfrm>
          <a:prstGeom prst="wedgeRoundRectCallout">
            <a:avLst>
              <a:gd name="adj1" fmla="val -27837"/>
              <a:gd name="adj2" fmla="val 41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Готово. Продолжаем занят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24" name="WordArt 8"/>
          <p:cNvSpPr txBox="1"/>
          <p:nvPr/>
        </p:nvSpPr>
        <p:spPr>
          <a:xfrm>
            <a:off x="7399440" y="565200"/>
            <a:ext cx="14414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ЗАКОНЧИТЬ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8"/>
          <p:cNvSpPr/>
          <p:nvPr/>
        </p:nvSpPr>
        <p:spPr>
          <a:xfrm>
            <a:off x="900000" y="2060640"/>
            <a:ext cx="7415280" cy="2448000"/>
          </a:xfrm>
          <a:prstGeom prst="wedgeRoundRectCallout">
            <a:avLst>
              <a:gd name="adj1" fmla="val -31523"/>
              <a:gd name="adj2" fmla="val 4215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попробуем вставить рамку на Ваш лист. В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Word’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е есть такая возможность. Что для этого надо сделать? Щёлкаем по кнопке «Формат» в строке меню. В появившемся меню щёлкаем по «Границы и заливка…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И ждё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28" name="AutoShape 10"/>
          <p:cNvSpPr/>
          <p:nvPr/>
        </p:nvSpPr>
        <p:spPr>
          <a:xfrm rot="13985400">
            <a:off x="2324520" y="3304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 rot="13985400">
            <a:off x="3597840" y="83268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evt="end">
                                        <p:tn val="16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evt="end">
                                        <p:tn val="172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5"/>
          <p:cNvSpPr/>
          <p:nvPr/>
        </p:nvSpPr>
        <p:spPr>
          <a:xfrm>
            <a:off x="216000" y="225360"/>
            <a:ext cx="6372000" cy="1008000"/>
          </a:xfrm>
          <a:prstGeom prst="wedgeRoundRectCallout">
            <a:avLst>
              <a:gd name="adj1" fmla="val -14101"/>
              <a:gd name="adj2" fmla="val -165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ока не появится окно «Границы и заливка». На вкладке «Страница» щёлкаем по «Рамка». Выбираем тип или рисунок, цвет. 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3" name="AutoShape 9"/>
          <p:cNvSpPr/>
          <p:nvPr/>
        </p:nvSpPr>
        <p:spPr>
          <a:xfrm rot="8747400">
            <a:off x="2881080" y="133488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 rot="8747400">
            <a:off x="1913040" y="26427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 rot="8747400">
            <a:off x="4567320" y="244584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2"/>
          <p:cNvSpPr/>
          <p:nvPr/>
        </p:nvSpPr>
        <p:spPr>
          <a:xfrm rot="8747400">
            <a:off x="4565520" y="46335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 rot="8747400">
            <a:off x="4584240" y="355896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4"/>
          <p:cNvSpPr/>
          <p:nvPr/>
        </p:nvSpPr>
        <p:spPr>
          <a:xfrm rot="8747400">
            <a:off x="6273720" y="52048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evt="end">
                                        <p:tn val="181"/>
                                      </p:cond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9" dur="1" fill="hold">
                                    <p:stCondLst>
                                      <p:cond evt="end">
                                        <p:tn val="187"/>
                                      </p:cond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9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5" dur="1" fill="hold">
                                    <p:stCondLst>
                                      <p:cond evt="end">
                                        <p:tn val="193"/>
                                      </p:cond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evt="end">
                                        <p:tn val="199"/>
                                      </p:cond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evt="end">
                                        <p:tn val="205"/>
                                      </p:cond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evt="end">
                                        <p:tn val="211"/>
                                      </p:cond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rcRect l="21250" t="3307" r="72452" b="93046"/>
          <a:stretch/>
        </p:blipFill>
        <p:spPr>
          <a:xfrm>
            <a:off x="1943280" y="225360"/>
            <a:ext cx="576000" cy="250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3"/>
          <a:srcRect l="21581" t="6784" r="57868" b="73304"/>
          <a:stretch/>
        </p:blipFill>
        <p:spPr>
          <a:xfrm>
            <a:off x="2023920" y="460440"/>
            <a:ext cx="1879920" cy="136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>
            <a:hlinkClick r:id="" action="ppaction://hlinkshowjump?jump=nextslide"/>
          </p:cNvPr>
          <p:cNvPicPr/>
          <p:nvPr/>
        </p:nvPicPr>
        <p:blipFill>
          <a:blip r:embed="rId4"/>
          <a:srcRect l="21581" t="10205" r="57868" b="86261"/>
          <a:stretch/>
        </p:blipFill>
        <p:spPr>
          <a:xfrm>
            <a:off x="2025720" y="696960"/>
            <a:ext cx="1879560" cy="24300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8"/>
          <p:cNvSpPr/>
          <p:nvPr/>
        </p:nvSpPr>
        <p:spPr>
          <a:xfrm>
            <a:off x="555480" y="3255840"/>
            <a:ext cx="8062920" cy="1656000"/>
          </a:xfrm>
          <a:prstGeom prst="wedgeRoundRectCallout">
            <a:avLst>
              <a:gd name="adj1" fmla="val -16055"/>
              <a:gd name="adj2" fmla="val -2056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пришло время попрактиковаться. Вспомните, что было в предыдущей странице. Задание: вставить в лист рамку с «яблочным» рисунком. Попробуйте это сдел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>
            <a:hlinkClick r:id="" action="ppaction://hlinkshowjump?jump=nextslide"/>
          </p:cNvPr>
          <p:cNvPicPr/>
          <p:nvPr/>
        </p:nvPicPr>
        <p:blipFill>
          <a:blip r:embed="rId2"/>
          <a:srcRect l="24689" t="23786" r="68163" b="73279"/>
          <a:stretch/>
        </p:blipFill>
        <p:spPr>
          <a:xfrm>
            <a:off x="2278080" y="1627200"/>
            <a:ext cx="654120" cy="20160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6"/>
          <p:cNvSpPr/>
          <p:nvPr/>
        </p:nvSpPr>
        <p:spPr>
          <a:xfrm>
            <a:off x="1363680" y="249120"/>
            <a:ext cx="6337440" cy="905040"/>
          </a:xfrm>
          <a:prstGeom prst="wedgeRoundRectCallout">
            <a:avLst>
              <a:gd name="adj1" fmla="val -17009"/>
              <a:gd name="adj2" fmla="val -737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еплохо для начинающего! Продолжайте в том же дух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5"/>
          <p:cNvSpPr txBox="1"/>
          <p:nvPr/>
        </p:nvSpPr>
        <p:spPr>
          <a:xfrm>
            <a:off x="755640" y="836640"/>
            <a:ext cx="77040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Азы</a:t>
            </a:r>
            <a:endParaRPr b="1" lang="en-US" sz="1800" spc="1" strike="noStrike">
              <a:ln w="28440">
                <a:solidFill>
                  <a:srgbClr val="ffff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WORD'а</a:t>
            </a:r>
            <a:endParaRPr b="1" lang="en-US" sz="1800" spc="1" strike="noStrike">
              <a:ln w="28440">
                <a:solidFill>
                  <a:srgbClr val="ffff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4500720" y="4005360"/>
            <a:ext cx="4356000" cy="10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(мультимедийный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учебник для начинающих)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rcRect l="18732" t="40328" r="76392" b="52598"/>
          <a:stretch/>
        </p:blipFill>
        <p:spPr>
          <a:xfrm>
            <a:off x="1714680" y="2762280"/>
            <a:ext cx="446040" cy="485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rcRect l="15836" t="18444" r="16058" b="14740"/>
          <a:stretch/>
        </p:blipFill>
        <p:spPr>
          <a:xfrm>
            <a:off x="1455840" y="1273320"/>
            <a:ext cx="6227640" cy="4584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>
            <a:hlinkClick r:id="" action="ppaction://hlinkshowjump?jump=nextslide"/>
          </p:cNvPr>
          <p:cNvPicPr/>
          <p:nvPr/>
        </p:nvPicPr>
        <p:blipFill>
          <a:blip r:embed="rId4"/>
          <a:srcRect l="49974" t="72063" r="48609" b="25216"/>
          <a:stretch/>
        </p:blipFill>
        <p:spPr>
          <a:xfrm>
            <a:off x="4578480" y="4957920"/>
            <a:ext cx="128520" cy="193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"/>
          <p:cNvPicPr/>
          <p:nvPr/>
        </p:nvPicPr>
        <p:blipFill>
          <a:blip r:embed="rId5"/>
          <a:srcRect l="51566" t="96580" r="15609" b="-2841"/>
          <a:stretch/>
        </p:blipFill>
        <p:spPr>
          <a:xfrm>
            <a:off x="2646360" y="6570720"/>
            <a:ext cx="3002040" cy="52524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9"/>
          <p:cNvSpPr/>
          <p:nvPr/>
        </p:nvSpPr>
        <p:spPr>
          <a:xfrm>
            <a:off x="861840" y="249120"/>
            <a:ext cx="5254920" cy="498600"/>
          </a:xfrm>
          <a:prstGeom prst="wedgeRoundRectCallout">
            <a:avLst>
              <a:gd name="adj1" fmla="val -666"/>
              <a:gd name="adj2" fmla="val 2738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тлично, продолжаем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rcRect l="51566" t="96580" r="15609" b="-2841"/>
          <a:stretch/>
        </p:blipFill>
        <p:spPr>
          <a:xfrm>
            <a:off x="2646360" y="6570720"/>
            <a:ext cx="3002040" cy="525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>
            <a:hlinkClick r:id="" action="ppaction://hlinkshowjump?jump=nextslide"/>
          </p:cNvPr>
          <p:cNvPicPr/>
          <p:nvPr/>
        </p:nvPicPr>
        <p:blipFill>
          <a:blip r:embed="rId3"/>
          <a:srcRect l="34171" t="51326" r="50210" b="45027"/>
          <a:stretch/>
        </p:blipFill>
        <p:spPr>
          <a:xfrm>
            <a:off x="3125880" y="3522600"/>
            <a:ext cx="1428480" cy="25092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8"/>
          <p:cNvSpPr/>
          <p:nvPr/>
        </p:nvSpPr>
        <p:spPr>
          <a:xfrm>
            <a:off x="861840" y="249120"/>
            <a:ext cx="6413760" cy="455760"/>
          </a:xfrm>
          <a:prstGeom prst="wedgeRoundRectCallout">
            <a:avLst>
              <a:gd name="adj1" fmla="val -9578"/>
              <a:gd name="adj2" fmla="val 3467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десь выберите «яблочную» рамк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rcRect l="51566" t="96580" r="15609" b="-2841"/>
          <a:stretch/>
        </p:blipFill>
        <p:spPr>
          <a:xfrm>
            <a:off x="2646360" y="6570720"/>
            <a:ext cx="3002040" cy="525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>
            <a:hlinkClick r:id="" action="ppaction://hlinkshowjump?jump=nextslide"/>
          </p:cNvPr>
          <p:cNvPicPr/>
          <p:nvPr/>
        </p:nvPicPr>
        <p:blipFill>
          <a:blip r:embed="rId3"/>
          <a:srcRect l="62432" t="79389" r="27675" b="16592"/>
          <a:stretch/>
        </p:blipFill>
        <p:spPr>
          <a:xfrm>
            <a:off x="5710320" y="5454720"/>
            <a:ext cx="904680" cy="27612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7"/>
          <p:cNvSpPr/>
          <p:nvPr/>
        </p:nvSpPr>
        <p:spPr>
          <a:xfrm>
            <a:off x="861840" y="249120"/>
            <a:ext cx="6413760" cy="779760"/>
          </a:xfrm>
          <a:prstGeom prst="wedgeRoundRectCallout">
            <a:avLst>
              <a:gd name="adj1" fmla="val -9578"/>
              <a:gd name="adj2" fmla="val -5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Хорошо, всё готово для вставки рамки. Подтвердите свой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5"/>
          <p:cNvSpPr/>
          <p:nvPr/>
        </p:nvSpPr>
        <p:spPr>
          <a:xfrm>
            <a:off x="1187280" y="3094200"/>
            <a:ext cx="6413760" cy="820440"/>
          </a:xfrm>
          <a:prstGeom prst="wedgeRoundRectCallout">
            <a:avLst>
              <a:gd name="adj1" fmla="val -41907"/>
              <a:gd name="adj2" fmla="val -1813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вот и Ваша «яблочная» рамка. Готово. Надеюсь, Вы запомнили все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rcRect l="15104" t="6803" r="67449" b="78117"/>
          <a:stretch/>
        </p:blipFill>
        <p:spPr>
          <a:xfrm>
            <a:off x="1419120" y="47628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3"/>
          <a:srcRect l="32536" t="14740" r="44985" b="63213"/>
          <a:stretch/>
        </p:blipFill>
        <p:spPr>
          <a:xfrm>
            <a:off x="3021120" y="1071720"/>
            <a:ext cx="2055600" cy="15127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7"/>
          <p:cNvSpPr/>
          <p:nvPr/>
        </p:nvSpPr>
        <p:spPr>
          <a:xfrm>
            <a:off x="1079640" y="3094200"/>
            <a:ext cx="7167600" cy="2366640"/>
          </a:xfrm>
          <a:prstGeom prst="wedgeRoundRectCallout">
            <a:avLst>
              <a:gd name="adj1" fmla="val -27495"/>
              <a:gd name="adj2" fmla="val -3799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я научу Вас, как вставлять Объек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. Объек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– это такая цветная и объёмная надпись. Скоро Вы увидите всё Сами. Итак, маршрут: «Вставка» - «Рисунок» - «Объек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». Или щёлкаем по значку «Добавить Объек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 rot="13327800">
            <a:off x="2171520" y="1149120"/>
            <a:ext cx="650520" cy="471240"/>
          </a:xfrm>
          <a:prstGeom prst="rightArrow">
            <a:avLst>
              <a:gd name="adj1" fmla="val 56880"/>
              <a:gd name="adj2" fmla="val 77369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 rot="13327800">
            <a:off x="4551120" y="19728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 rot="13327800">
            <a:off x="4344840" y="612720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 rot="13350600">
            <a:off x="1601280" y="33948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13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8"/>
                                      </p:cond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evt="end">
                                        <p:tn val="248"/>
                                      </p:cond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0" dur="1" fill="hold">
                                    <p:stCondLst>
                                      <p:cond evt="end">
                                        <p:tn val="258"/>
                                      </p:cond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9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35" repeatCount="3000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evt="end">
                                        <p:tn val="264"/>
                                      </p:cond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rcRect l="22989" t="22098" r="24670" b="18583"/>
          <a:stretch/>
        </p:blipFill>
        <p:spPr>
          <a:xfrm>
            <a:off x="2349360" y="1905120"/>
            <a:ext cx="4786560" cy="407016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6"/>
          <p:cNvSpPr/>
          <p:nvPr/>
        </p:nvSpPr>
        <p:spPr>
          <a:xfrm>
            <a:off x="690480" y="612720"/>
            <a:ext cx="7167600" cy="843120"/>
          </a:xfrm>
          <a:prstGeom prst="wedgeRoundRectCallout">
            <a:avLst>
              <a:gd name="adj1" fmla="val -13013"/>
              <a:gd name="adj2" fmla="val 2834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еред Вами появится окно «Коллекция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. Выбираете стиль и щёлкаете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77" name="AutoShape 8"/>
          <p:cNvSpPr/>
          <p:nvPr/>
        </p:nvSpPr>
        <p:spPr>
          <a:xfrm rot="13327800">
            <a:off x="2781000" y="27442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9"/>
          <p:cNvSpPr/>
          <p:nvPr/>
        </p:nvSpPr>
        <p:spPr>
          <a:xfrm rot="13327800">
            <a:off x="5829120" y="5721120"/>
            <a:ext cx="650520" cy="471240"/>
          </a:xfrm>
          <a:prstGeom prst="rightArrow">
            <a:avLst>
              <a:gd name="adj1" fmla="val 56880"/>
              <a:gd name="adj2" fmla="val 77369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evt="end">
                                        <p:tn val="274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3" dur="1" fill="hold">
                                    <p:stCondLst>
                                      <p:cond evt="end">
                                        <p:tn val="281"/>
                                      </p:cond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rcRect l="19568" t="23257" r="18089" b="23118"/>
          <a:stretch/>
        </p:blipFill>
        <p:spPr>
          <a:xfrm>
            <a:off x="1649520" y="2081160"/>
            <a:ext cx="5700600" cy="36799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6"/>
          <p:cNvSpPr/>
          <p:nvPr/>
        </p:nvSpPr>
        <p:spPr>
          <a:xfrm>
            <a:off x="636480" y="738360"/>
            <a:ext cx="7221600" cy="1201680"/>
          </a:xfrm>
          <a:prstGeom prst="wedgeRoundRectCallout">
            <a:avLst>
              <a:gd name="adj1" fmla="val -12541"/>
              <a:gd name="adj2" fmla="val -548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появившемся окне «Изменение текста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 вводим нужный текст, выбираем шрифт, размер, начертание.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rcRect l="19568" t="23257" r="17867" b="22835"/>
          <a:stretch/>
        </p:blipFill>
        <p:spPr>
          <a:xfrm>
            <a:off x="1698480" y="2120760"/>
            <a:ext cx="5721480" cy="36990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6"/>
          <p:cNvSpPr/>
          <p:nvPr/>
        </p:nvSpPr>
        <p:spPr>
          <a:xfrm>
            <a:off x="636480" y="738360"/>
            <a:ext cx="7221600" cy="1201680"/>
          </a:xfrm>
          <a:prstGeom prst="wedgeRoundRectCallout">
            <a:avLst>
              <a:gd name="adj1" fmla="val -12541"/>
              <a:gd name="adj2" fmla="val -548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нашем случае введён текст «Учимся работать с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Microsoft Word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. (Жирный шриф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rial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, размер - 36). Остаётся щёлкнуть по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6"/>
          <p:cNvSpPr/>
          <p:nvPr/>
        </p:nvSpPr>
        <p:spPr>
          <a:xfrm>
            <a:off x="474840" y="738360"/>
            <a:ext cx="7705440" cy="896760"/>
          </a:xfrm>
          <a:prstGeom prst="wedgeRoundRectCallout">
            <a:avLst>
              <a:gd name="adj1" fmla="val -12791"/>
              <a:gd name="adj2" fmla="val 964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Готово. Надпись вставлена. Изменять размеры можно перетаскивая квадратики, выделяющие е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 rot="3231600">
            <a:off x="1224720" y="25470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 rot="3231600">
            <a:off x="4019760" y="254700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 rot="3231600">
            <a:off x="6855120" y="251208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"/>
          <p:cNvSpPr/>
          <p:nvPr/>
        </p:nvSpPr>
        <p:spPr>
          <a:xfrm rot="3231600">
            <a:off x="1188360" y="355032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1"/>
          <p:cNvSpPr/>
          <p:nvPr/>
        </p:nvSpPr>
        <p:spPr>
          <a:xfrm rot="3231600">
            <a:off x="1205640" y="44823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12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2" dur="1" fill="hold">
                                    <p:stCondLst>
                                      <p:cond evt="end">
                                        <p:tn val="290"/>
                                      </p:cond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evt="end">
                                        <p:tn val="296"/>
                                      </p:cond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4" dur="1" fill="hold">
                                    <p:stCondLst>
                                      <p:cond evt="end">
                                        <p:tn val="302"/>
                                      </p:cond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9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evt="end">
                                        <p:tn val="308"/>
                                      </p:cond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6" dur="1" fill="hold">
                                    <p:stCondLst>
                                      <p:cond evt="end">
                                        <p:tn val="314"/>
                                      </p:cond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457200" y="738360"/>
            <a:ext cx="7723080" cy="1614240"/>
          </a:xfrm>
          <a:prstGeom prst="wedgeRoundRectCallout">
            <a:avLst>
              <a:gd name="adj1" fmla="val -12652"/>
              <a:gd name="adj2" fmla="val -1686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остараемся закрасить эту надпись. Для этого щёлкаем по кнопке «Цвет заливки», выбираем цвет или строку «Способы заливки». Выберем «Способы залив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3"/>
          <a:srcRect l="53409" t="56712" r="27014" b="12334"/>
          <a:stretch/>
        </p:blipFill>
        <p:spPr>
          <a:xfrm>
            <a:off x="4883040" y="3890880"/>
            <a:ext cx="1790640" cy="2124000"/>
          </a:xfrm>
          <a:prstGeom prst="rect">
            <a:avLst/>
          </a:prstGeom>
          <a:ln w="0">
            <a:noFill/>
          </a:ln>
        </p:spPr>
      </p:pic>
      <p:sp>
        <p:nvSpPr>
          <p:cNvPr id="200" name="WordArt 8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201" name="AutoShape 9"/>
          <p:cNvSpPr/>
          <p:nvPr/>
        </p:nvSpPr>
        <p:spPr>
          <a:xfrm rot="13984200">
            <a:off x="5063400" y="60789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0"/>
          <p:cNvSpPr/>
          <p:nvPr/>
        </p:nvSpPr>
        <p:spPr>
          <a:xfrm rot="13984200">
            <a:off x="6300000" y="588204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3" dur="1" fill="hold">
                                    <p:stCondLst>
                                      <p:cond evt="end">
                                        <p:tn val="321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2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6" dur="1" fill="hold">
                                    <p:stCondLst>
                                      <p:cond evt="end">
                                        <p:tn val="324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evt="end">
                                        <p:tn val="333"/>
                                      </p:cond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826920" y="728640"/>
            <a:ext cx="792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Итак, начнём занятие. Во-первых, необходимо открыть программу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icrosoft Word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. Есть несколько способов. Мы рассмотрим один из них: щёлкаем левой кнопкой мыши по кнопке «Пуск» - «Программы» - «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icrosoft Word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». Запомнили? Сейчас проверим.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0" name="AutoShape 9"/>
          <p:cNvSpPr/>
          <p:nvPr/>
        </p:nvSpPr>
        <p:spPr>
          <a:xfrm rot="8747400">
            <a:off x="358560" y="6129360"/>
            <a:ext cx="815760" cy="471600"/>
          </a:xfrm>
          <a:prstGeom prst="rightArrow">
            <a:avLst>
              <a:gd name="adj1" fmla="val 56880"/>
              <a:gd name="adj2" fmla="val 96947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 rot="8747400">
            <a:off x="1692000" y="3608280"/>
            <a:ext cx="815760" cy="471600"/>
          </a:xfrm>
          <a:prstGeom prst="rightArrow">
            <a:avLst>
              <a:gd name="adj1" fmla="val 56880"/>
              <a:gd name="adj2" fmla="val 96947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 rot="8747400">
            <a:off x="3924000" y="4689360"/>
            <a:ext cx="815760" cy="471600"/>
          </a:xfrm>
          <a:prstGeom prst="rightArrow">
            <a:avLst>
              <a:gd name="adj1" fmla="val 56880"/>
              <a:gd name="adj2" fmla="val 96947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3000">
                                  <p:stCondLst>
                                    <p:cond delay="5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" dur="1" fill="hold">
                                    <p:stCondLst>
                                      <p:cond evt="end">
                                        <p:tn val="7"/>
                                      </p:cond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evt="end">
                                        <p:tn val="13"/>
                                      </p:cond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evt="end">
                                        <p:tn val="19"/>
                                      </p:cond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3"/>
          <a:srcRect l="26390" t="15874" r="25540" b="23395"/>
          <a:stretch/>
        </p:blipFill>
        <p:spPr>
          <a:xfrm>
            <a:off x="2395440" y="2317680"/>
            <a:ext cx="4395960" cy="416736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6"/>
          <p:cNvSpPr/>
          <p:nvPr/>
        </p:nvSpPr>
        <p:spPr>
          <a:xfrm>
            <a:off x="241200" y="272880"/>
            <a:ext cx="7383600" cy="1936800"/>
          </a:xfrm>
          <a:prstGeom prst="wedgeRoundRectCallout">
            <a:avLst>
              <a:gd name="adj1" fmla="val -8009"/>
              <a:gd name="adj2" fmla="val 16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окне «Способы заливки» можно выбрать варианты заливки: «Градиентная», «Текстура», «Узор», «Рисунок». На вкладке «Градиентная» здесь выбрана заливка  «Ранний закат». Готово. Осталось только щёлкнуть по ОК, чтоб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2"/>
          <a:srcRect l="24689" t="37436" r="23839" b="32189"/>
          <a:stretch/>
        </p:blipFill>
        <p:spPr>
          <a:xfrm>
            <a:off x="1565280" y="2759040"/>
            <a:ext cx="5983200" cy="26496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7"/>
          <p:cNvSpPr/>
          <p:nvPr/>
        </p:nvSpPr>
        <p:spPr>
          <a:xfrm>
            <a:off x="509760" y="1133640"/>
            <a:ext cx="7383240" cy="1631880"/>
          </a:xfrm>
          <a:prstGeom prst="wedgeRoundRectCallout">
            <a:avLst>
              <a:gd name="adj1" fmla="val -11643"/>
              <a:gd name="adj2" fmla="val -414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текст принял выбранную Вами заливку. Цвет сделали. Теперь нужно сделать объём. Для этого щёлкаем по кнопке «Объём». Появится меню. Выбираем нужный стиль (в нашем случае №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8"/>
          <p:cNvSpPr/>
          <p:nvPr/>
        </p:nvSpPr>
        <p:spPr>
          <a:xfrm rot="3045000">
            <a:off x="6658200" y="566640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3"/>
          <a:srcRect l="77729" t="55093" r="7242" b="12428"/>
          <a:stretch/>
        </p:blipFill>
        <p:spPr>
          <a:xfrm>
            <a:off x="7107120" y="3780000"/>
            <a:ext cx="1374840" cy="2228760"/>
          </a:xfrm>
          <a:prstGeom prst="rect">
            <a:avLst/>
          </a:prstGeom>
          <a:ln w="0">
            <a:noFill/>
          </a:ln>
        </p:spPr>
      </p:pic>
      <p:sp>
        <p:nvSpPr>
          <p:cNvPr id="213" name="WordArt 10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214" name="AutoShape 11"/>
          <p:cNvSpPr/>
          <p:nvPr/>
        </p:nvSpPr>
        <p:spPr>
          <a:xfrm rot="3045000">
            <a:off x="6755040" y="474912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evt="end">
                                        <p:tn val="342"/>
                                      </p:cond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evt="end">
                                        <p:tn val="351"/>
                                      </p:cond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2"/>
          <a:srcRect l="25313" t="31194" r="22346" b="32189"/>
          <a:stretch/>
        </p:blipFill>
        <p:spPr>
          <a:xfrm>
            <a:off x="1925640" y="2933640"/>
            <a:ext cx="5308560" cy="278784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905040" y="1133640"/>
            <a:ext cx="7383240" cy="1631880"/>
          </a:xfrm>
          <a:prstGeom prst="wedgeRoundRectCallout">
            <a:avLst>
              <a:gd name="adj1" fmla="val -16995"/>
              <a:gd name="adj2" fmla="val -414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Дело сделано. Текст стал объёмным. А сейчас практика: Вам придётся проделать всё это самостоятельно, то есть вставить Объек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, закрасить и придать ему объ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2"/>
          <a:srcRect l="15104" t="6803" r="67449" b="78117"/>
          <a:stretch/>
        </p:blipFill>
        <p:spPr>
          <a:xfrm>
            <a:off x="1419120" y="47628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3"/>
          <a:srcRect l="32536" t="14740" r="44985" b="63213"/>
          <a:stretch/>
        </p:blipFill>
        <p:spPr>
          <a:xfrm>
            <a:off x="3021120" y="1071720"/>
            <a:ext cx="2055600" cy="1512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4"/>
          <a:srcRect l="15104" t="14854" r="67449" b="81310"/>
          <a:stretch/>
        </p:blipFill>
        <p:spPr>
          <a:xfrm>
            <a:off x="1417680" y="1027080"/>
            <a:ext cx="1595520" cy="263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">
            <a:hlinkClick r:id="" action="ppaction://hlinkshowjump?jump=nextslide"/>
          </p:cNvPr>
          <p:cNvPicPr/>
          <p:nvPr/>
        </p:nvPicPr>
        <p:blipFill>
          <a:blip r:embed="rId5"/>
          <a:srcRect l="32536" t="26400" r="44985" b="69877"/>
          <a:stretch/>
        </p:blipFill>
        <p:spPr>
          <a:xfrm>
            <a:off x="3019320" y="1863720"/>
            <a:ext cx="2055960" cy="25560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9"/>
          <p:cNvSpPr/>
          <p:nvPr/>
        </p:nvSpPr>
        <p:spPr>
          <a:xfrm>
            <a:off x="2173320" y="3111480"/>
            <a:ext cx="4836960" cy="466920"/>
          </a:xfrm>
          <a:prstGeom prst="wedgeRoundRectCallout">
            <a:avLst>
              <a:gd name="adj1" fmla="val -39268"/>
              <a:gd name="adj2" fmla="val 714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Итак, начнём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0" descr=""/>
          <p:cNvPicPr/>
          <p:nvPr/>
        </p:nvPicPr>
        <p:blipFill>
          <a:blip r:embed="rId6"/>
          <a:srcRect l="14688" t="3515" r="78736" b="93203"/>
          <a:stretch/>
        </p:blipFill>
        <p:spPr>
          <a:xfrm>
            <a:off x="1370160" y="236520"/>
            <a:ext cx="601560" cy="225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">
            <a:hlinkClick r:id="" action="ppaction://hlinkshowjump?jump=nextslide"/>
          </p:cNvPr>
          <p:cNvPicPr/>
          <p:nvPr/>
        </p:nvPicPr>
        <p:blipFill>
          <a:blip r:embed="rId7"/>
          <a:srcRect l="47031" t="87811" r="50366" b="8750"/>
          <a:stretch/>
        </p:blipFill>
        <p:spPr>
          <a:xfrm>
            <a:off x="4308480" y="6026040"/>
            <a:ext cx="237960" cy="2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2"/>
          <a:srcRect l="22989" t="22098" r="24670" b="18583"/>
          <a:stretch/>
        </p:blipFill>
        <p:spPr>
          <a:xfrm>
            <a:off x="2095560" y="1652760"/>
            <a:ext cx="4786200" cy="40701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"/>
          <p:cNvPicPr/>
          <p:nvPr/>
        </p:nvPicPr>
        <p:blipFill>
          <a:blip r:embed="rId3"/>
          <a:srcRect l="24845" t="31654" r="67761" b="61159"/>
          <a:stretch/>
        </p:blipFill>
        <p:spPr>
          <a:xfrm>
            <a:off x="2263680" y="2316240"/>
            <a:ext cx="676440" cy="49356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7"/>
          <p:cNvSpPr/>
          <p:nvPr/>
        </p:nvSpPr>
        <p:spPr>
          <a:xfrm>
            <a:off x="404640" y="246240"/>
            <a:ext cx="5407200" cy="831600"/>
          </a:xfrm>
          <a:prstGeom prst="wedgeRoundRectCallout">
            <a:avLst>
              <a:gd name="adj1" fmla="val -18967"/>
              <a:gd name="adj2" fmla="val -1545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ока всё идёт хорошо. Выберите левый верхний сти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8" descr="">
            <a:hlinkClick r:id="" action="ppaction://hlinkshowjump?jump=nextslide"/>
          </p:cNvPr>
          <p:cNvPicPr/>
          <p:nvPr/>
        </p:nvPicPr>
        <p:blipFill>
          <a:blip r:embed="rId4"/>
          <a:srcRect l="53683" t="75131" r="36023" b="20082"/>
          <a:stretch/>
        </p:blipFill>
        <p:spPr>
          <a:xfrm>
            <a:off x="4890960" y="5289480"/>
            <a:ext cx="941400" cy="32868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9"/>
          <p:cNvSpPr/>
          <p:nvPr/>
        </p:nvSpPr>
        <p:spPr>
          <a:xfrm>
            <a:off x="2604960" y="1157400"/>
            <a:ext cx="6262920" cy="465120"/>
          </a:xfrm>
          <a:prstGeom prst="wedgeRoundRectCallout">
            <a:avLst>
              <a:gd name="adj1" fmla="val -5819"/>
              <a:gd name="adj2" fmla="val -119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тиль выбран, подтвердите Свой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2"/>
          <a:srcRect l="19776" t="23691" r="18004" b="22954"/>
          <a:stretch/>
        </p:blipFill>
        <p:spPr>
          <a:xfrm>
            <a:off x="1708200" y="2354400"/>
            <a:ext cx="5689440" cy="366048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6"/>
          <p:cNvSpPr/>
          <p:nvPr/>
        </p:nvSpPr>
        <p:spPr>
          <a:xfrm>
            <a:off x="871560" y="246240"/>
            <a:ext cx="7480440" cy="1989000"/>
          </a:xfrm>
          <a:prstGeom prst="wedgeRoundRectCallout">
            <a:avLst>
              <a:gd name="adj1" fmla="val -27569"/>
              <a:gd name="adj2" fmla="val -35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десь, конечно, должен был быть текст «Текст надписи», на я Вам облегчил задание, вписав готовый. Тем более я учу Вас не печатать буквы, а работать с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. Шрифт тоже выбран. Вам осталось только подтвердить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7" descr="">
            <a:hlinkClick r:id="" action="ppaction://hlinkshowjump?jump=nextslide"/>
          </p:cNvPr>
          <p:cNvPicPr/>
          <p:nvPr/>
        </p:nvPicPr>
        <p:blipFill>
          <a:blip r:embed="rId3"/>
          <a:srcRect l="61322" t="71729" r="29206" b="24183"/>
          <a:stretch/>
        </p:blipFill>
        <p:spPr>
          <a:xfrm>
            <a:off x="5508720" y="5657760"/>
            <a:ext cx="866520" cy="2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871560" y="246240"/>
            <a:ext cx="7480440" cy="1196640"/>
          </a:xfrm>
          <a:prstGeom prst="wedgeRoundRectCallout">
            <a:avLst>
              <a:gd name="adj1" fmla="val -27569"/>
              <a:gd name="adj2" fmla="val -2599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амечательно, Вы делаете успехи!                        Но надо ещё закрасить эти слова. Вспомните, как это дел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232760" y="2292480"/>
            <a:ext cx="934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 rot="3045000">
            <a:off x="4646880" y="549360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0" descr="">
            <a:hlinkClick r:id="" action="ppaction://hlinkshowjump?jump=nextslide"/>
          </p:cNvPr>
          <p:cNvPicPr/>
          <p:nvPr/>
        </p:nvPicPr>
        <p:blipFill>
          <a:blip r:embed="rId3"/>
          <a:srcRect l="56007" t="87950" r="42519" b="8397"/>
          <a:stretch/>
        </p:blipFill>
        <p:spPr>
          <a:xfrm>
            <a:off x="5135400" y="6031080"/>
            <a:ext cx="135000" cy="25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4" dur="1" fill="hold">
                                    <p:stCondLst>
                                      <p:cond evt="end">
                                        <p:tn val="381"/>
                                      </p:cond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3"/>
          <a:srcRect l="53409" t="56712" r="27014" b="12334"/>
          <a:stretch/>
        </p:blipFill>
        <p:spPr>
          <a:xfrm>
            <a:off x="4883040" y="3890880"/>
            <a:ext cx="1790640" cy="212400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8"/>
          <p:cNvSpPr/>
          <p:nvPr/>
        </p:nvSpPr>
        <p:spPr>
          <a:xfrm>
            <a:off x="973080" y="692280"/>
            <a:ext cx="7480440" cy="850680"/>
          </a:xfrm>
          <a:prstGeom prst="wedgeRoundRectCallout">
            <a:avLst>
              <a:gd name="adj1" fmla="val -28648"/>
              <a:gd name="adj2" fmla="val -41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чень неплохо. Сейчас Вам надо открыть окно, где показаны способы зали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9" descr="">
            <a:hlinkClick r:id="" action="ppaction://hlinkshowjump?jump=nextslide"/>
          </p:cNvPr>
          <p:cNvPicPr/>
          <p:nvPr/>
        </p:nvPicPr>
        <p:blipFill>
          <a:blip r:embed="rId4"/>
          <a:srcRect l="53409" t="83370" r="27014" b="12334"/>
          <a:stretch/>
        </p:blipFill>
        <p:spPr>
          <a:xfrm>
            <a:off x="4878360" y="5718240"/>
            <a:ext cx="179064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5"/>
          <p:cNvSpPr/>
          <p:nvPr/>
        </p:nvSpPr>
        <p:spPr>
          <a:xfrm>
            <a:off x="973080" y="692280"/>
            <a:ext cx="7480440" cy="850680"/>
          </a:xfrm>
          <a:prstGeom prst="wedgeRoundRectCallout">
            <a:avLst>
              <a:gd name="adj1" fmla="val -28648"/>
              <a:gd name="adj2" fmla="val -41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ё правильно. Попробуйте добраться до градиентной заливки «Ранний зака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7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3"/>
          <a:srcRect l="25885" t="20384" r="25696" b="18696"/>
          <a:stretch/>
        </p:blipFill>
        <p:spPr>
          <a:xfrm>
            <a:off x="2133720" y="1971720"/>
            <a:ext cx="4427280" cy="417996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9"/>
          <p:cNvSpPr/>
          <p:nvPr/>
        </p:nvSpPr>
        <p:spPr>
          <a:xfrm>
            <a:off x="7232760" y="2292480"/>
            <a:ext cx="934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0"/>
          <p:cNvSpPr/>
          <p:nvPr/>
        </p:nvSpPr>
        <p:spPr>
          <a:xfrm rot="3045000">
            <a:off x="1886400" y="30358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1" descr="">
            <a:hlinkClick r:id="" action="ppaction://hlinkshowjump?jump=nextslide"/>
          </p:cNvPr>
          <p:cNvPicPr/>
          <p:nvPr/>
        </p:nvPicPr>
        <p:blipFill>
          <a:blip r:embed="rId4"/>
          <a:srcRect l="28752" t="42135" r="61964" b="54583"/>
          <a:stretch/>
        </p:blipFill>
        <p:spPr>
          <a:xfrm>
            <a:off x="2397240" y="3465360"/>
            <a:ext cx="849240" cy="2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2" dur="1" fill="hold">
                                    <p:stCondLst>
                                      <p:cond evt="end">
                                        <p:tn val="389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"/>
          <p:cNvPicPr/>
          <p:nvPr/>
        </p:nvPicPr>
        <p:blipFill>
          <a:blip r:embed="rId3"/>
          <a:srcRect l="26461" t="20731" r="25559" b="18513"/>
          <a:stretch/>
        </p:blipFill>
        <p:spPr>
          <a:xfrm>
            <a:off x="2155680" y="1952640"/>
            <a:ext cx="4388040" cy="4168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"/>
          <p:cNvPicPr/>
          <p:nvPr/>
        </p:nvPicPr>
        <p:blipFill>
          <a:blip r:embed="rId4"/>
          <a:srcRect l="45854" t="36447" r="39689" b="59351"/>
          <a:stretch/>
        </p:blipFill>
        <p:spPr>
          <a:xfrm>
            <a:off x="3946680" y="3038400"/>
            <a:ext cx="1322280" cy="289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5"/>
          <a:srcRect l="46062" t="40258" r="39774" b="46299"/>
          <a:stretch/>
        </p:blipFill>
        <p:spPr>
          <a:xfrm>
            <a:off x="3959280" y="3321000"/>
            <a:ext cx="1295280" cy="922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">
            <a:hlinkClick r:id="" action="ppaction://hlinkshowjump?jump=nextslide"/>
          </p:cNvPr>
          <p:cNvPicPr/>
          <p:nvPr/>
        </p:nvPicPr>
        <p:blipFill>
          <a:blip r:embed="rId6"/>
          <a:srcRect l="46062" t="40258" r="41754" b="57405"/>
          <a:stretch/>
        </p:blipFill>
        <p:spPr>
          <a:xfrm>
            <a:off x="3986280" y="3338640"/>
            <a:ext cx="1114200" cy="16020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10"/>
          <p:cNvSpPr/>
          <p:nvPr/>
        </p:nvSpPr>
        <p:spPr>
          <a:xfrm>
            <a:off x="973080" y="1079640"/>
            <a:ext cx="7480440" cy="463320"/>
          </a:xfrm>
          <a:prstGeom prst="wedgeRoundRectCallout">
            <a:avLst>
              <a:gd name="adj1" fmla="val -28648"/>
              <a:gd name="adj2" fmla="val -4931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Итак, «Ранний закат». Выберите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rcRect l="0" t="38431" r="71271" b="3843"/>
          <a:stretch/>
        </p:blipFill>
        <p:spPr>
          <a:xfrm>
            <a:off x="0" y="2637000"/>
            <a:ext cx="2627280" cy="396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3"/>
          <a:srcRect l="2683" t="55830" r="71281" b="37140"/>
          <a:stretch/>
        </p:blipFill>
        <p:spPr>
          <a:xfrm>
            <a:off x="250920" y="3824280"/>
            <a:ext cx="23763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4"/>
          <a:srcRect l="0" t="96164" r="92521" b="44"/>
          <a:stretch/>
        </p:blipFill>
        <p:spPr>
          <a:xfrm>
            <a:off x="0" y="6597720"/>
            <a:ext cx="684360" cy="260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5"/>
          <a:srcRect l="27552" t="56271" r="49601" b="19068"/>
          <a:stretch/>
        </p:blipFill>
        <p:spPr>
          <a:xfrm>
            <a:off x="2519280" y="3860640"/>
            <a:ext cx="2089080" cy="1692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27552" t="73606" r="49601" b="22746"/>
          <a:stretch/>
        </p:blipFill>
        <p:spPr>
          <a:xfrm>
            <a:off x="2519280" y="5049720"/>
            <a:ext cx="2089080" cy="250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2"/>
          <p:cNvSpPr/>
          <p:nvPr/>
        </p:nvSpPr>
        <p:spPr>
          <a:xfrm>
            <a:off x="826920" y="3333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Сейчас попробуйте Сами открыть документ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ORD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"/>
          <p:cNvPicPr/>
          <p:nvPr/>
        </p:nvPicPr>
        <p:blipFill>
          <a:blip r:embed="rId3"/>
          <a:srcRect l="26461" t="20731" r="25559" b="18513"/>
          <a:stretch/>
        </p:blipFill>
        <p:spPr>
          <a:xfrm>
            <a:off x="2155680" y="1952640"/>
            <a:ext cx="4388040" cy="416880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8"/>
          <p:cNvSpPr/>
          <p:nvPr/>
        </p:nvSpPr>
        <p:spPr>
          <a:xfrm>
            <a:off x="973080" y="692280"/>
            <a:ext cx="7480440" cy="850680"/>
          </a:xfrm>
          <a:prstGeom prst="wedgeRoundRectCallout">
            <a:avLst>
              <a:gd name="adj1" fmla="val -28648"/>
              <a:gd name="adj2" fmla="val -41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ейчас из вариантов штриховки выберите левый ниж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"/>
          <p:cNvPicPr/>
          <p:nvPr/>
        </p:nvPicPr>
        <p:blipFill>
          <a:blip r:embed="rId4"/>
          <a:srcRect l="46965" t="64554" r="46653" b="27420"/>
          <a:stretch/>
        </p:blipFill>
        <p:spPr>
          <a:xfrm>
            <a:off x="4025880" y="4960800"/>
            <a:ext cx="584280" cy="5511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"/>
          <p:cNvPicPr/>
          <p:nvPr/>
        </p:nvPicPr>
        <p:blipFill>
          <a:blip r:embed="rId5"/>
          <a:srcRect l="26215" t="20428" r="25332" b="18211"/>
          <a:stretch/>
        </p:blipFill>
        <p:spPr>
          <a:xfrm>
            <a:off x="2135160" y="1932120"/>
            <a:ext cx="4430880" cy="420984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11"/>
          <p:cNvSpPr/>
          <p:nvPr/>
        </p:nvSpPr>
        <p:spPr>
          <a:xfrm>
            <a:off x="5807160" y="3778200"/>
            <a:ext cx="2114640" cy="830160"/>
          </a:xfrm>
          <a:prstGeom prst="wedgeRoundRectCallout">
            <a:avLst>
              <a:gd name="adj1" fmla="val -16893"/>
              <a:gd name="adj2" fmla="val -29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одтвердите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2" descr="">
            <a:hlinkClick r:id="" action="ppaction://hlinkshowjump?jump=nextslide"/>
          </p:cNvPr>
          <p:cNvPicPr/>
          <p:nvPr/>
        </p:nvPicPr>
        <p:blipFill>
          <a:blip r:embed="rId6"/>
          <a:srcRect l="63859" t="28901" r="26423" b="66872"/>
          <a:stretch/>
        </p:blipFill>
        <p:spPr>
          <a:xfrm>
            <a:off x="5572080" y="2509920"/>
            <a:ext cx="88920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2"/>
          <a:srcRect l="24689" t="37436" r="23839" b="32189"/>
          <a:stretch/>
        </p:blipFill>
        <p:spPr>
          <a:xfrm>
            <a:off x="1565280" y="2759040"/>
            <a:ext cx="5983200" cy="264960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6"/>
          <p:cNvSpPr/>
          <p:nvPr/>
        </p:nvSpPr>
        <p:spPr>
          <a:xfrm>
            <a:off x="973080" y="692280"/>
            <a:ext cx="7642440" cy="1643040"/>
          </a:xfrm>
          <a:prstGeom prst="wedgeRoundRectCallout">
            <a:avLst>
              <a:gd name="adj1" fmla="val -29101"/>
              <a:gd name="adj2" fmla="val -2623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от и всё. Теперь, надеюсь, Вы сможете задать заливку Объекту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. Этим же способом можно также закрасить прямоугольники, овалы, автофигуры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2"/>
          <a:srcRect l="24689" t="37436" r="23839" b="32189"/>
          <a:stretch/>
        </p:blipFill>
        <p:spPr>
          <a:xfrm>
            <a:off x="1565280" y="2759040"/>
            <a:ext cx="5983200" cy="264960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6"/>
          <p:cNvSpPr/>
          <p:nvPr/>
        </p:nvSpPr>
        <p:spPr>
          <a:xfrm>
            <a:off x="973080" y="692280"/>
            <a:ext cx="7642440" cy="876240"/>
          </a:xfrm>
          <a:prstGeom prst="wedgeRoundRectCallout">
            <a:avLst>
              <a:gd name="adj1" fmla="val -29101"/>
              <a:gd name="adj2" fmla="val -543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теперь пришло время поработать над объёмом. Постарайтесь вспомнить, как это дел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7232760" y="2292480"/>
            <a:ext cx="934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9" descr="">
            <a:hlinkClick r:id="" action="ppaction://hlinkshowjump?jump=nextslide"/>
          </p:cNvPr>
          <p:cNvPicPr/>
          <p:nvPr/>
        </p:nvPicPr>
        <p:blipFill>
          <a:blip r:embed="rId3"/>
          <a:srcRect l="77744" t="87906" r="19601" b="8561"/>
          <a:stretch/>
        </p:blipFill>
        <p:spPr>
          <a:xfrm>
            <a:off x="7110360" y="6026040"/>
            <a:ext cx="243000" cy="243000"/>
          </a:xfrm>
          <a:prstGeom prst="rect">
            <a:avLst/>
          </a:prstGeom>
          <a:ln w="0">
            <a:noFill/>
          </a:ln>
        </p:spPr>
      </p:pic>
      <p:sp>
        <p:nvSpPr>
          <p:cNvPr id="279" name="AutoShape 10"/>
          <p:cNvSpPr/>
          <p:nvPr/>
        </p:nvSpPr>
        <p:spPr>
          <a:xfrm rot="3045000">
            <a:off x="6688440" y="562032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8" dur="1" fill="hold">
                                    <p:stCondLst>
                                      <p:cond evt="end">
                                        <p:tn val="415"/>
                                      </p:cond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"/>
          <p:cNvPicPr/>
          <p:nvPr/>
        </p:nvPicPr>
        <p:blipFill>
          <a:blip r:embed="rId2"/>
          <a:srcRect l="24689" t="37436" r="23839" b="32189"/>
          <a:stretch/>
        </p:blipFill>
        <p:spPr>
          <a:xfrm>
            <a:off x="1565280" y="2759040"/>
            <a:ext cx="5983200" cy="264960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6"/>
          <p:cNvSpPr/>
          <p:nvPr/>
        </p:nvSpPr>
        <p:spPr>
          <a:xfrm>
            <a:off x="973080" y="692280"/>
            <a:ext cx="7642440" cy="876240"/>
          </a:xfrm>
          <a:prstGeom prst="wedgeRoundRectCallout">
            <a:avLst>
              <a:gd name="adj1" fmla="val -29101"/>
              <a:gd name="adj2" fmla="val -543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тлично. В меню выберите  стиль 13 – второй снизу в левом ря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8" descr=""/>
          <p:cNvPicPr/>
          <p:nvPr/>
        </p:nvPicPr>
        <p:blipFill>
          <a:blip r:embed="rId3"/>
          <a:srcRect l="77678" t="54980" r="6874" b="12076"/>
          <a:stretch/>
        </p:blipFill>
        <p:spPr>
          <a:xfrm>
            <a:off x="7102440" y="3772080"/>
            <a:ext cx="1413000" cy="2260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>
            <a:hlinkClick r:id="" action="ppaction://hlinkshowjump?jump=nextslide"/>
          </p:cNvPr>
          <p:cNvPicPr/>
          <p:nvPr/>
        </p:nvPicPr>
        <p:blipFill>
          <a:blip r:embed="rId4"/>
          <a:srcRect l="78821" t="73304" r="17811" b="22072"/>
          <a:stretch/>
        </p:blipFill>
        <p:spPr>
          <a:xfrm>
            <a:off x="7205760" y="5046840"/>
            <a:ext cx="307800" cy="31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"/>
          <p:cNvPicPr/>
          <p:nvPr/>
        </p:nvPicPr>
        <p:blipFill>
          <a:blip r:embed="rId2"/>
          <a:srcRect l="25313" t="31194" r="22346" b="32189"/>
          <a:stretch/>
        </p:blipFill>
        <p:spPr>
          <a:xfrm>
            <a:off x="1925640" y="2933640"/>
            <a:ext cx="5308560" cy="27878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"/>
          <p:cNvSpPr/>
          <p:nvPr/>
        </p:nvSpPr>
        <p:spPr>
          <a:xfrm>
            <a:off x="1009800" y="1319040"/>
            <a:ext cx="7408800" cy="554040"/>
          </a:xfrm>
          <a:prstGeom prst="wedgeRoundRectCallout">
            <a:avLst>
              <a:gd name="adj1" fmla="val -27500"/>
              <a:gd name="adj2" fmla="val -1819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ы справились и с этим. Текст принял объ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289" name="WordArt 9"/>
          <p:cNvSpPr txBox="1"/>
          <p:nvPr/>
        </p:nvSpPr>
        <p:spPr>
          <a:xfrm>
            <a:off x="7399440" y="565200"/>
            <a:ext cx="14414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ЗАКОНЧИТЬ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6"/>
          <p:cNvSpPr/>
          <p:nvPr/>
        </p:nvSpPr>
        <p:spPr>
          <a:xfrm>
            <a:off x="824040" y="2500200"/>
            <a:ext cx="7600680" cy="1578240"/>
          </a:xfrm>
          <a:prstGeom prst="wedgeRoundRectCallout">
            <a:avLst>
              <a:gd name="adj1" fmla="val -24500"/>
              <a:gd name="adj2" fmla="val -225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родолжаем занятие. Сейчас я научу Вас вставлять картинки. Для этого щёлкаем по кнопке «Вставка» - «Рисунок» - «Картинки…» или по значку «Добавить картинк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2"/>
          <a:srcRect l="15104" t="6803" r="67449" b="78117"/>
          <a:stretch/>
        </p:blipFill>
        <p:spPr>
          <a:xfrm>
            <a:off x="1568520" y="45396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"/>
          <p:cNvPicPr/>
          <p:nvPr/>
        </p:nvPicPr>
        <p:blipFill>
          <a:blip r:embed="rId3"/>
          <a:srcRect l="27241" t="11635" r="54675" b="69997"/>
          <a:stretch/>
        </p:blipFill>
        <p:spPr>
          <a:xfrm>
            <a:off x="3157560" y="1006560"/>
            <a:ext cx="1654200" cy="125892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9"/>
          <p:cNvSpPr/>
          <p:nvPr/>
        </p:nvSpPr>
        <p:spPr>
          <a:xfrm rot="14240400">
            <a:off x="1539720" y="34884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0"/>
          <p:cNvSpPr/>
          <p:nvPr/>
        </p:nvSpPr>
        <p:spPr>
          <a:xfrm rot="14240400">
            <a:off x="2611440" y="118548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1"/>
          <p:cNvSpPr/>
          <p:nvPr/>
        </p:nvSpPr>
        <p:spPr>
          <a:xfrm rot="14240400">
            <a:off x="4404960" y="1172520"/>
            <a:ext cx="579240" cy="471600"/>
          </a:xfrm>
          <a:prstGeom prst="rightArrow">
            <a:avLst>
              <a:gd name="adj1" fmla="val 56880"/>
              <a:gd name="adj2" fmla="val 68838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2"/>
          <p:cNvSpPr/>
          <p:nvPr/>
        </p:nvSpPr>
        <p:spPr>
          <a:xfrm rot="14240400">
            <a:off x="4647960" y="6053040"/>
            <a:ext cx="579600" cy="471240"/>
          </a:xfrm>
          <a:prstGeom prst="rightArrow">
            <a:avLst>
              <a:gd name="adj1" fmla="val 56880"/>
              <a:gd name="adj2" fmla="val 68934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13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evt="end">
                                        <p:tn val="426"/>
                                      </p:cond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evt="end">
                                        <p:tn val="436"/>
                                      </p:cond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4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8" dur="1" fill="hold">
                                    <p:stCondLst>
                                      <p:cond evt="end">
                                        <p:tn val="446"/>
                                      </p:cond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9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9000"/>
                            </p:stCondLst>
                            <p:childTnLst>
                              <p:par>
                                <p:cTn id="45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5" dur="1" fill="hold">
                                    <p:stCondLst>
                                      <p:cond evt="end">
                                        <p:tn val="453"/>
                                      </p:cond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"/>
          <p:cNvPicPr/>
          <p:nvPr/>
        </p:nvPicPr>
        <p:blipFill>
          <a:blip r:embed="rId2"/>
          <a:srcRect l="11858" t="8050" r="11858" b="15969"/>
          <a:stretch/>
        </p:blipFill>
        <p:spPr>
          <a:xfrm>
            <a:off x="979560" y="1382760"/>
            <a:ext cx="6975360" cy="521316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6"/>
          <p:cNvSpPr/>
          <p:nvPr/>
        </p:nvSpPr>
        <p:spPr>
          <a:xfrm>
            <a:off x="463680" y="268200"/>
            <a:ext cx="6943680" cy="1130400"/>
          </a:xfrm>
          <a:prstGeom prst="wedgeRoundRectCallout">
            <a:avLst>
              <a:gd name="adj1" fmla="val -10152"/>
              <a:gd name="adj2" fmla="val 3707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еред Вами появится окно «Вставка картинки». Выбираете нужную категорию, например, «Животные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3" name="AutoShape 8"/>
          <p:cNvSpPr/>
          <p:nvPr/>
        </p:nvSpPr>
        <p:spPr>
          <a:xfrm rot="14240400">
            <a:off x="4252680" y="4922280"/>
            <a:ext cx="579240" cy="471240"/>
          </a:xfrm>
          <a:prstGeom prst="rightArrow">
            <a:avLst>
              <a:gd name="adj1" fmla="val 56880"/>
              <a:gd name="adj2" fmla="val 6889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evt="end">
                                        <p:tn val="463"/>
                                      </p:cond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2"/>
          <a:srcRect l="11877" t="8699" r="12099" b="16592"/>
          <a:stretch/>
        </p:blipFill>
        <p:spPr>
          <a:xfrm>
            <a:off x="979560" y="1424160"/>
            <a:ext cx="6951600" cy="5126040"/>
          </a:xfrm>
          <a:prstGeom prst="rect">
            <a:avLst/>
          </a:prstGeom>
          <a:ln w="0">
            <a:noFill/>
          </a:ln>
        </p:spPr>
      </p:pic>
      <p:sp>
        <p:nvSpPr>
          <p:cNvPr id="306" name="AutoShape 6"/>
          <p:cNvSpPr/>
          <p:nvPr/>
        </p:nvSpPr>
        <p:spPr>
          <a:xfrm>
            <a:off x="677880" y="417600"/>
            <a:ext cx="6539040" cy="812880"/>
          </a:xfrm>
          <a:prstGeom prst="wedgeRoundRectCallout">
            <a:avLst>
              <a:gd name="adj1" fmla="val -12273"/>
              <a:gd name="adj2" fmla="val 82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потом выбираем клипы. Щёлкаем по нужному левой кнопкой мы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8" name="AutoShape 8"/>
          <p:cNvSpPr/>
          <p:nvPr/>
        </p:nvSpPr>
        <p:spPr>
          <a:xfrm rot="14240400">
            <a:off x="1993680" y="4114800"/>
            <a:ext cx="579600" cy="471240"/>
          </a:xfrm>
          <a:prstGeom prst="rightArrow">
            <a:avLst>
              <a:gd name="adj1" fmla="val 56880"/>
              <a:gd name="adj2" fmla="val 68934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5" dur="1" fill="hold">
                                    <p:stCondLst>
                                      <p:cond evt="end">
                                        <p:tn val="473"/>
                                      </p:cond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10" name="WordArt 5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pic>
        <p:nvPicPr>
          <p:cNvPr id="311" name="Picture 6" descr=""/>
          <p:cNvPicPr/>
          <p:nvPr/>
        </p:nvPicPr>
        <p:blipFill>
          <a:blip r:embed="rId2"/>
          <a:srcRect l="11858" t="8674" r="12326" b="16592"/>
          <a:stretch/>
        </p:blipFill>
        <p:spPr>
          <a:xfrm>
            <a:off x="1003320" y="1442880"/>
            <a:ext cx="6932520" cy="5127840"/>
          </a:xfrm>
          <a:prstGeom prst="rect">
            <a:avLst/>
          </a:prstGeom>
          <a:ln w="0">
            <a:noFill/>
          </a:ln>
        </p:spPr>
      </p:pic>
      <p:sp>
        <p:nvSpPr>
          <p:cNvPr id="312" name="AutoShape 7"/>
          <p:cNvSpPr/>
          <p:nvPr/>
        </p:nvSpPr>
        <p:spPr>
          <a:xfrm>
            <a:off x="677880" y="417600"/>
            <a:ext cx="6539040" cy="812880"/>
          </a:xfrm>
          <a:prstGeom prst="wedgeRoundRectCallout">
            <a:avLst>
              <a:gd name="adj1" fmla="val -12273"/>
              <a:gd name="adj2" fmla="val 82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появившемся меню щёлкаем по верхнему значку и закрываем ок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8"/>
          <p:cNvSpPr/>
          <p:nvPr/>
        </p:nvSpPr>
        <p:spPr>
          <a:xfrm rot="14240400">
            <a:off x="2778120" y="390492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9"/>
          <p:cNvSpPr/>
          <p:nvPr/>
        </p:nvSpPr>
        <p:spPr>
          <a:xfrm rot="14240400">
            <a:off x="7678440" y="1619280"/>
            <a:ext cx="579600" cy="471240"/>
          </a:xfrm>
          <a:prstGeom prst="rightArrow">
            <a:avLst>
              <a:gd name="adj1" fmla="val 56880"/>
              <a:gd name="adj2" fmla="val 68934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5" dur="1" fill="hold">
                                    <p:stCondLst>
                                      <p:cond evt="end">
                                        <p:tn val="483"/>
                                      </p:cond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0"/>
                            </p:stCondLst>
                            <p:childTnLst>
                              <p:par>
                                <p:cTn id="490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2" dur="1" fill="hold">
                                    <p:stCondLst>
                                      <p:cond evt="end">
                                        <p:tn val="490"/>
                                      </p:cond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AN01124_"/>
          <p:cNvPicPr/>
          <p:nvPr/>
        </p:nvPicPr>
        <p:blipFill>
          <a:blip r:embed="rId2"/>
          <a:stretch/>
        </p:blipFill>
        <p:spPr>
          <a:xfrm>
            <a:off x="1170000" y="2263680"/>
            <a:ext cx="2333520" cy="281952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6"/>
          <p:cNvSpPr/>
          <p:nvPr/>
        </p:nvSpPr>
        <p:spPr>
          <a:xfrm>
            <a:off x="3668760" y="2139840"/>
            <a:ext cx="4730760" cy="514440"/>
          </a:xfrm>
          <a:prstGeom prst="wedgeRoundRectCallout">
            <a:avLst>
              <a:gd name="adj1" fmla="val -37685"/>
              <a:gd name="adj2" fmla="val -240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Готово. Рисунок вставл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755640" y="1952640"/>
            <a:ext cx="756144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Поздравляю! Если Вы видите этот слайд, значит всё сделали правильно. Так вот, это и есть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WORD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. Он используется для обработки текстовых документов с использованием рисунков, таблиц, объёмных текстов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и многого другого, а также создания простейших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Web-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тра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Итак, продолжим знакомство с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Word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5"/>
          <p:cNvSpPr/>
          <p:nvPr/>
        </p:nvSpPr>
        <p:spPr>
          <a:xfrm>
            <a:off x="1251000" y="2927520"/>
            <a:ext cx="6627600" cy="892080"/>
          </a:xfrm>
          <a:prstGeom prst="wedgeRoundRectCallout">
            <a:avLst>
              <a:gd name="adj1" fmla="val -12777"/>
              <a:gd name="adj2" fmla="val 302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пришло время практики. Попробуйте вставить рисунок ль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6" descr=""/>
          <p:cNvPicPr/>
          <p:nvPr/>
        </p:nvPicPr>
        <p:blipFill>
          <a:blip r:embed="rId2"/>
          <a:srcRect l="14896" t="3654" r="78703" b="93524"/>
          <a:stretch/>
        </p:blipFill>
        <p:spPr>
          <a:xfrm>
            <a:off x="1363680" y="252360"/>
            <a:ext cx="585720" cy="1936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3"/>
          <a:srcRect l="15104" t="6803" r="67449" b="78117"/>
          <a:stretch/>
        </p:blipFill>
        <p:spPr>
          <a:xfrm>
            <a:off x="1568520" y="45396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"/>
          <p:cNvPicPr/>
          <p:nvPr/>
        </p:nvPicPr>
        <p:blipFill>
          <a:blip r:embed="rId4"/>
          <a:srcRect l="27241" t="11635" r="54675" b="69997"/>
          <a:stretch/>
        </p:blipFill>
        <p:spPr>
          <a:xfrm>
            <a:off x="3138480" y="1023840"/>
            <a:ext cx="1654200" cy="12589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5"/>
          <a:srcRect l="15382" t="15156" r="67941" b="81424"/>
          <a:stretch/>
        </p:blipFill>
        <p:spPr>
          <a:xfrm>
            <a:off x="1598760" y="1027080"/>
            <a:ext cx="1525320" cy="235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27241" t="11912" r="54675" b="84668"/>
          <a:stretch/>
        </p:blipFill>
        <p:spPr>
          <a:xfrm>
            <a:off x="3133800" y="1036800"/>
            <a:ext cx="1654200" cy="234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1" descr="">
            <a:hlinkClick r:id="" action="ppaction://hlinkshowjump?jump=nextslide"/>
          </p:cNvPr>
          <p:cNvPicPr/>
          <p:nvPr/>
        </p:nvPicPr>
        <p:blipFill>
          <a:blip r:embed="rId7"/>
          <a:srcRect l="50002" t="88019" r="47659" b="8957"/>
          <a:stretch/>
        </p:blipFill>
        <p:spPr>
          <a:xfrm>
            <a:off x="4573440" y="6046920"/>
            <a:ext cx="21456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"/>
          <p:cNvPicPr/>
          <p:nvPr/>
        </p:nvPicPr>
        <p:blipFill>
          <a:blip r:embed="rId2"/>
          <a:srcRect l="11858" t="8050" r="11858" b="16592"/>
          <a:stretch/>
        </p:blipFill>
        <p:spPr>
          <a:xfrm>
            <a:off x="1063800" y="1106640"/>
            <a:ext cx="6975360" cy="5170320"/>
          </a:xfrm>
          <a:prstGeom prst="rect">
            <a:avLst/>
          </a:prstGeom>
          <a:ln w="0">
            <a:noFill/>
          </a:ln>
        </p:spPr>
      </p:pic>
      <p:sp>
        <p:nvSpPr>
          <p:cNvPr id="329" name="AutoShape 6"/>
          <p:cNvSpPr/>
          <p:nvPr/>
        </p:nvSpPr>
        <p:spPr>
          <a:xfrm>
            <a:off x="606600" y="331920"/>
            <a:ext cx="6389640" cy="514080"/>
          </a:xfrm>
          <a:prstGeom prst="wedgeRoundRectCallout">
            <a:avLst>
              <a:gd name="adj1" fmla="val 2722"/>
              <a:gd name="adj2" fmla="val -339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Лев находится в категории «Животны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7" descr="">
            <a:hlinkClick r:id="" action="ppaction://hlinkshowjump?jump=nextslide"/>
          </p:cNvPr>
          <p:cNvPicPr/>
          <p:nvPr/>
        </p:nvPicPr>
        <p:blipFill>
          <a:blip r:embed="rId3"/>
          <a:srcRect l="41688" t="49770" r="49601" b="38620"/>
          <a:stretch/>
        </p:blipFill>
        <p:spPr>
          <a:xfrm>
            <a:off x="3789360" y="3976560"/>
            <a:ext cx="797040" cy="7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"/>
          <p:cNvPicPr/>
          <p:nvPr/>
        </p:nvPicPr>
        <p:blipFill>
          <a:blip r:embed="rId2"/>
          <a:srcRect l="11877" t="8699" r="12099" b="16592"/>
          <a:stretch/>
        </p:blipFill>
        <p:spPr>
          <a:xfrm>
            <a:off x="979560" y="1424160"/>
            <a:ext cx="6951600" cy="512604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6"/>
          <p:cNvSpPr/>
          <p:nvPr/>
        </p:nvSpPr>
        <p:spPr>
          <a:xfrm>
            <a:off x="606600" y="331920"/>
            <a:ext cx="6348240" cy="834840"/>
          </a:xfrm>
          <a:prstGeom prst="wedgeRoundRectCallout">
            <a:avLst>
              <a:gd name="adj1" fmla="val 3064"/>
              <a:gd name="adj2" fmla="val -2129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ам не отказать в сообразительности. Продолж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7" descr="">
            <a:hlinkClick r:id="" action="ppaction://hlinkshowjump?jump=nextslide"/>
          </p:cNvPr>
          <p:cNvPicPr/>
          <p:nvPr/>
        </p:nvPicPr>
        <p:blipFill>
          <a:blip r:embed="rId3"/>
          <a:srcRect l="14201" t="34104" r="73303" b="48983"/>
          <a:stretch/>
        </p:blipFill>
        <p:spPr>
          <a:xfrm>
            <a:off x="1192320" y="3168720"/>
            <a:ext cx="1143000" cy="11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"/>
          <p:cNvPicPr/>
          <p:nvPr/>
        </p:nvPicPr>
        <p:blipFill>
          <a:blip r:embed="rId2"/>
          <a:srcRect l="11858" t="8674" r="12326" b="16592"/>
          <a:stretch/>
        </p:blipFill>
        <p:spPr>
          <a:xfrm>
            <a:off x="1003320" y="1442880"/>
            <a:ext cx="6932520" cy="51278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"/>
          <p:cNvPicPr/>
          <p:nvPr/>
        </p:nvPicPr>
        <p:blipFill>
          <a:blip r:embed="rId3"/>
          <a:srcRect l="27623" t="42255" r="66963" b="53008"/>
          <a:stretch/>
        </p:blipFill>
        <p:spPr>
          <a:xfrm>
            <a:off x="2446200" y="3754440"/>
            <a:ext cx="495360" cy="3254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">
            <a:hlinkClick r:id="" action="ppaction://hlinkshowjump?jump=nextslide"/>
          </p:cNvPr>
          <p:cNvPicPr/>
          <p:nvPr/>
        </p:nvPicPr>
        <p:blipFill>
          <a:blip r:embed="rId4"/>
          <a:srcRect l="85440" t="9512" r="12708" b="88157"/>
          <a:stretch/>
        </p:blipFill>
        <p:spPr>
          <a:xfrm>
            <a:off x="7726320" y="1501920"/>
            <a:ext cx="169920" cy="16020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8"/>
          <p:cNvSpPr/>
          <p:nvPr/>
        </p:nvSpPr>
        <p:spPr>
          <a:xfrm>
            <a:off x="3944880" y="3328920"/>
            <a:ext cx="3564000" cy="878040"/>
          </a:xfrm>
          <a:prstGeom prst="wedgeRoundRectCallout">
            <a:avLst>
              <a:gd name="adj1" fmla="val -14587"/>
              <a:gd name="adj2" fmla="val 40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Рисунок вставлен. Закройте ок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AN01124_"/>
          <p:cNvPicPr/>
          <p:nvPr/>
        </p:nvPicPr>
        <p:blipFill>
          <a:blip r:embed="rId2"/>
          <a:stretch/>
        </p:blipFill>
        <p:spPr>
          <a:xfrm>
            <a:off x="1170000" y="2263680"/>
            <a:ext cx="2333520" cy="2819520"/>
          </a:xfrm>
          <a:prstGeom prst="rect">
            <a:avLst/>
          </a:prstGeom>
          <a:ln w="0">
            <a:noFill/>
          </a:ln>
        </p:spPr>
      </p:pic>
      <p:sp>
        <p:nvSpPr>
          <p:cNvPr id="342" name="AutoShape 7"/>
          <p:cNvSpPr/>
          <p:nvPr/>
        </p:nvSpPr>
        <p:spPr>
          <a:xfrm>
            <a:off x="3621240" y="3328920"/>
            <a:ext cx="4929120" cy="2332080"/>
          </a:xfrm>
          <a:prstGeom prst="wedgeRoundRectCallout">
            <a:avLst>
              <a:gd name="adj1" fmla="val -17824"/>
              <a:gd name="adj2" fmla="val -2964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Теперь Вы можете всё! Кстати, этим же способом можно вставить рисунок из файла, то есть рисунок, который Вы сами нарисовали или скопировали. Попробу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8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2"/>
          <a:srcRect l="15104" t="6803" r="67449" b="78117"/>
          <a:stretch/>
        </p:blipFill>
        <p:spPr>
          <a:xfrm>
            <a:off x="1568520" y="45396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"/>
          <p:cNvPicPr/>
          <p:nvPr/>
        </p:nvPicPr>
        <p:blipFill>
          <a:blip r:embed="rId3"/>
          <a:srcRect l="32674" t="19622" r="49554" b="62079"/>
          <a:stretch/>
        </p:blipFill>
        <p:spPr>
          <a:xfrm>
            <a:off x="3151080" y="1004760"/>
            <a:ext cx="1625760" cy="125568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7"/>
          <p:cNvSpPr/>
          <p:nvPr/>
        </p:nvSpPr>
        <p:spPr>
          <a:xfrm>
            <a:off x="1539720" y="3328920"/>
            <a:ext cx="6255000" cy="914400"/>
          </a:xfrm>
          <a:prstGeom prst="wedgeRoundRectCallout">
            <a:avLst>
              <a:gd name="adj1" fmla="val 5458"/>
              <a:gd name="adj2" fmla="val 19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Тот же принцип работы. Маршрут: «Вставка» - «Рисунок» - «Из файла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WordArt 8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49" name="AutoShape 9"/>
          <p:cNvSpPr/>
          <p:nvPr/>
        </p:nvSpPr>
        <p:spPr>
          <a:xfrm rot="14240400">
            <a:off x="1715760" y="396360"/>
            <a:ext cx="579240" cy="471600"/>
          </a:xfrm>
          <a:prstGeom prst="rightArrow">
            <a:avLst>
              <a:gd name="adj1" fmla="val 56880"/>
              <a:gd name="adj2" fmla="val 68838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 rot="14240400">
            <a:off x="2746080" y="1191600"/>
            <a:ext cx="579240" cy="471240"/>
          </a:xfrm>
          <a:prstGeom prst="rightArrow">
            <a:avLst>
              <a:gd name="adj1" fmla="val 56880"/>
              <a:gd name="adj2" fmla="val 6889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1"/>
          <p:cNvSpPr/>
          <p:nvPr/>
        </p:nvSpPr>
        <p:spPr>
          <a:xfrm rot="14240400">
            <a:off x="4433400" y="1393200"/>
            <a:ext cx="579240" cy="471600"/>
          </a:xfrm>
          <a:prstGeom prst="rightArrow">
            <a:avLst>
              <a:gd name="adj1" fmla="val 56880"/>
              <a:gd name="adj2" fmla="val 68838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7" dur="1" fill="hold">
                                    <p:stCondLst>
                                      <p:cond evt="end">
                                        <p:tn val="525"/>
                                      </p:cond>
                                    </p:stCondLst>
                                  </p:cTn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0"/>
                            </p:stCondLst>
                            <p:childTnLst>
                              <p:par>
                                <p:cTn id="53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7" dur="1" fill="hold">
                                    <p:stCondLst>
                                      <p:cond evt="end">
                                        <p:tn val="535"/>
                                      </p:cond>
                                    </p:stCondLst>
                                  </p:cTn>
                                  <p:tgtEl>
                                    <p:spTgt spid="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7" dur="1" fill="hold">
                                    <p:stCondLst>
                                      <p:cond evt="end">
                                        <p:tn val="545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"/>
          <p:cNvPicPr/>
          <p:nvPr/>
        </p:nvPicPr>
        <p:blipFill>
          <a:blip r:embed="rId2"/>
          <a:srcRect l="10781" t="20384" r="9430" b="15017"/>
          <a:stretch/>
        </p:blipFill>
        <p:spPr>
          <a:xfrm>
            <a:off x="914400" y="1504800"/>
            <a:ext cx="7296120" cy="44323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7"/>
          <p:cNvSpPr/>
          <p:nvPr/>
        </p:nvSpPr>
        <p:spPr>
          <a:xfrm>
            <a:off x="2087640" y="2098800"/>
            <a:ext cx="2952720" cy="16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0" descr="Каб"/>
          <p:cNvPicPr/>
          <p:nvPr/>
        </p:nvPicPr>
        <p:blipFill>
          <a:blip r:embed="rId3"/>
          <a:stretch/>
        </p:blipFill>
        <p:spPr>
          <a:xfrm>
            <a:off x="5145120" y="2557440"/>
            <a:ext cx="2957400" cy="22194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3" descr=""/>
          <p:cNvPicPr/>
          <p:nvPr/>
        </p:nvPicPr>
        <p:blipFill>
          <a:blip r:embed="rId4"/>
          <a:srcRect l="32836" t="10994" r="57901" b="76740"/>
          <a:stretch/>
        </p:blipFill>
        <p:spPr>
          <a:xfrm>
            <a:off x="3235320" y="2286000"/>
            <a:ext cx="693720" cy="689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4" descr=""/>
          <p:cNvPicPr/>
          <p:nvPr/>
        </p:nvPicPr>
        <p:blipFill>
          <a:blip r:embed="rId5"/>
          <a:srcRect l="24059" t="10994" r="67698" b="76740"/>
          <a:stretch/>
        </p:blipFill>
        <p:spPr>
          <a:xfrm>
            <a:off x="2263680" y="2276640"/>
            <a:ext cx="617760" cy="6886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5" descr=""/>
          <p:cNvPicPr/>
          <p:nvPr/>
        </p:nvPicPr>
        <p:blipFill>
          <a:blip r:embed="rId6"/>
          <a:srcRect l="41995" t="10994" r="47848" b="76740"/>
          <a:stretch/>
        </p:blipFill>
        <p:spPr>
          <a:xfrm>
            <a:off x="4226040" y="2286000"/>
            <a:ext cx="760320" cy="6890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7" descr=""/>
          <p:cNvPicPr/>
          <p:nvPr/>
        </p:nvPicPr>
        <p:blipFill>
          <a:blip r:embed="rId7"/>
          <a:srcRect l="76043" t="75987" r="9864" b="21077"/>
          <a:stretch/>
        </p:blipFill>
        <p:spPr>
          <a:xfrm>
            <a:off x="6829560" y="5289480"/>
            <a:ext cx="1288800" cy="20160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18"/>
          <p:cNvSpPr/>
          <p:nvPr/>
        </p:nvSpPr>
        <p:spPr>
          <a:xfrm>
            <a:off x="268200" y="266760"/>
            <a:ext cx="7248600" cy="1219320"/>
          </a:xfrm>
          <a:prstGeom prst="wedgeRoundRectCallout">
            <a:avLst>
              <a:gd name="adj1" fmla="val 13930"/>
              <a:gd name="adj2" fmla="val -110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появившемся окне «Добавить рисунок» выбираем нужный и щёлкаем «Вставка» (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о умолчанию открывается папка «Мои документы»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9"/>
          <p:cNvSpPr/>
          <p:nvPr/>
        </p:nvSpPr>
        <p:spPr>
          <a:xfrm rot="14240400">
            <a:off x="2501640" y="2883960"/>
            <a:ext cx="579240" cy="471240"/>
          </a:xfrm>
          <a:prstGeom prst="rightArrow">
            <a:avLst>
              <a:gd name="adj1" fmla="val 56880"/>
              <a:gd name="adj2" fmla="val 6889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0"/>
          <p:cNvSpPr/>
          <p:nvPr/>
        </p:nvSpPr>
        <p:spPr>
          <a:xfrm rot="14240400">
            <a:off x="7742160" y="542412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WordArt 21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7" dur="1" fill="hold">
                                    <p:stCondLst>
                                      <p:cond evt="end">
                                        <p:tn val="555"/>
                                      </p:cond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0"/>
                            </p:stCondLst>
                            <p:childTnLst>
                              <p:par>
                                <p:cTn id="56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0" dur="1" fill="hold">
                                    <p:stCondLst>
                                      <p:cond evt="end">
                                        <p:tn val="568"/>
                                      </p:cond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Каб"/>
          <p:cNvPicPr/>
          <p:nvPr/>
        </p:nvPicPr>
        <p:blipFill>
          <a:blip r:embed="rId2"/>
          <a:stretch/>
        </p:blipFill>
        <p:spPr>
          <a:xfrm>
            <a:off x="1290600" y="2270160"/>
            <a:ext cx="4535640" cy="340344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6"/>
          <p:cNvSpPr/>
          <p:nvPr/>
        </p:nvSpPr>
        <p:spPr>
          <a:xfrm>
            <a:off x="2058840" y="660240"/>
            <a:ext cx="4991400" cy="520920"/>
          </a:xfrm>
          <a:prstGeom prst="wedgeRoundRectCallout">
            <a:avLst>
              <a:gd name="adj1" fmla="val 7666"/>
              <a:gd name="adj2" fmla="val -1371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Фотография вставле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"/>
          <p:cNvPicPr/>
          <p:nvPr/>
        </p:nvPicPr>
        <p:blipFill>
          <a:blip r:embed="rId2"/>
          <a:srcRect l="15104" t="6803" r="67449" b="78117"/>
          <a:stretch/>
        </p:blipFill>
        <p:spPr>
          <a:xfrm>
            <a:off x="1568520" y="45396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"/>
          <p:cNvPicPr/>
          <p:nvPr/>
        </p:nvPicPr>
        <p:blipFill>
          <a:blip r:embed="rId3"/>
          <a:srcRect l="32674" t="19622" r="49554" b="62079"/>
          <a:stretch/>
        </p:blipFill>
        <p:spPr>
          <a:xfrm>
            <a:off x="3151080" y="1004760"/>
            <a:ext cx="1625760" cy="12556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" descr=""/>
          <p:cNvPicPr/>
          <p:nvPr/>
        </p:nvPicPr>
        <p:blipFill>
          <a:blip r:embed="rId4"/>
          <a:srcRect l="15245" t="3584" r="78963" b="93550"/>
          <a:stretch/>
        </p:blipFill>
        <p:spPr>
          <a:xfrm>
            <a:off x="1382760" y="247680"/>
            <a:ext cx="530280" cy="196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8" descr=""/>
          <p:cNvPicPr/>
          <p:nvPr/>
        </p:nvPicPr>
        <p:blipFill>
          <a:blip r:embed="rId5"/>
          <a:srcRect l="15104" t="15225" r="67449" b="81638"/>
          <a:stretch/>
        </p:blipFill>
        <p:spPr>
          <a:xfrm>
            <a:off x="1563840" y="1027080"/>
            <a:ext cx="1595160" cy="216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">
            <a:hlinkClick r:id="" action="ppaction://hlinkshowjump?jump=nextslide"/>
          </p:cNvPr>
          <p:cNvPicPr/>
          <p:nvPr/>
        </p:nvPicPr>
        <p:blipFill>
          <a:blip r:embed="rId6"/>
          <a:srcRect l="32674" t="22954" r="49554" b="73556"/>
          <a:stretch/>
        </p:blipFill>
        <p:spPr>
          <a:xfrm>
            <a:off x="3152880" y="1241280"/>
            <a:ext cx="1625400" cy="23976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10"/>
          <p:cNvSpPr/>
          <p:nvPr/>
        </p:nvSpPr>
        <p:spPr>
          <a:xfrm>
            <a:off x="1397160" y="2760840"/>
            <a:ext cx="6424560" cy="914400"/>
          </a:xfrm>
          <a:prstGeom prst="wedgeRoundRectCallout">
            <a:avLst>
              <a:gd name="adj1" fmla="val 12393"/>
              <a:gd name="adj2" fmla="val 2135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ейчас попробуйте вставить Сами рисунок из фай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9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580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2"/>
          <a:srcRect l="10781" t="20384" r="9430" b="15017"/>
          <a:stretch/>
        </p:blipFill>
        <p:spPr>
          <a:xfrm>
            <a:off x="914400" y="1504800"/>
            <a:ext cx="7296120" cy="443232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6"/>
          <p:cNvSpPr/>
          <p:nvPr/>
        </p:nvSpPr>
        <p:spPr>
          <a:xfrm>
            <a:off x="2087640" y="2098800"/>
            <a:ext cx="2952720" cy="16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7" descr=""/>
          <p:cNvPicPr/>
          <p:nvPr/>
        </p:nvPicPr>
        <p:blipFill>
          <a:blip r:embed="rId3"/>
          <a:srcRect l="24059" t="10994" r="67698" b="76740"/>
          <a:stretch/>
        </p:blipFill>
        <p:spPr>
          <a:xfrm>
            <a:off x="2263680" y="2276640"/>
            <a:ext cx="617760" cy="6886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"/>
          <p:cNvPicPr/>
          <p:nvPr/>
        </p:nvPicPr>
        <p:blipFill>
          <a:blip r:embed="rId4"/>
          <a:srcRect l="32836" t="10994" r="57901" b="76740"/>
          <a:stretch/>
        </p:blipFill>
        <p:spPr>
          <a:xfrm>
            <a:off x="3235320" y="2286000"/>
            <a:ext cx="693720" cy="6890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"/>
          <p:cNvPicPr/>
          <p:nvPr/>
        </p:nvPicPr>
        <p:blipFill>
          <a:blip r:embed="rId5"/>
          <a:srcRect l="41995" t="10994" r="47848" b="76740"/>
          <a:stretch/>
        </p:blipFill>
        <p:spPr>
          <a:xfrm>
            <a:off x="4226040" y="2286000"/>
            <a:ext cx="760320" cy="6890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76043" t="75987" r="9864" b="21077"/>
          <a:stretch/>
        </p:blipFill>
        <p:spPr>
          <a:xfrm>
            <a:off x="6829560" y="5289480"/>
            <a:ext cx="1288800" cy="201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1" descr="Каб"/>
          <p:cNvPicPr/>
          <p:nvPr/>
        </p:nvPicPr>
        <p:blipFill>
          <a:blip r:embed="rId7"/>
          <a:stretch/>
        </p:blipFill>
        <p:spPr>
          <a:xfrm>
            <a:off x="5121360" y="2556000"/>
            <a:ext cx="2994120" cy="224604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12"/>
          <p:cNvSpPr/>
          <p:nvPr/>
        </p:nvSpPr>
        <p:spPr>
          <a:xfrm>
            <a:off x="1074600" y="517680"/>
            <a:ext cx="7159680" cy="519120"/>
          </a:xfrm>
          <a:prstGeom prst="wedgeRoundRectCallout">
            <a:avLst>
              <a:gd name="adj1" fmla="val 9736"/>
              <a:gd name="adj2" fmla="val -351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десь выберите фотографию «Каб. ПДД.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jpg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8"/>
          <p:cNvSpPr/>
          <p:nvPr/>
        </p:nvSpPr>
        <p:spPr>
          <a:xfrm>
            <a:off x="826920" y="225360"/>
            <a:ext cx="6696360" cy="1332000"/>
          </a:xfrm>
          <a:prstGeom prst="wedgeRoundRectCallout">
            <a:avLst>
              <a:gd name="adj1" fmla="val -48814"/>
              <a:gd name="adj2" fmla="val 6597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попробуйте напечатать что-то, например, своё имя. Поставьте курсор здесь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(курсор – это такая чёрная мигающая палоч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863640" y="2421000"/>
            <a:ext cx="6696000" cy="2774880"/>
          </a:xfrm>
          <a:prstGeom prst="wedgeRoundRectCallout">
            <a:avLst>
              <a:gd name="adj1" fmla="val -28995"/>
              <a:gd name="adj2" fmla="val 183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е забывайте, что это всего лишь демонстрация, здесь печатать можно только в одну строчку. Для удаления символов используются кнопки:                  – для удаления символа слева от курсора,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          аааааа  – для удаления символа справа от кур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13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pic>
        <p:nvPicPr>
          <p:cNvPr id="67" name="Picture 15" descr=""/>
          <p:cNvPicPr/>
          <p:nvPr/>
        </p:nvPicPr>
        <p:blipFill>
          <a:blip r:embed="rId2"/>
          <a:srcRect l="10157" t="38047" r="13984" b="36157"/>
          <a:stretch/>
        </p:blipFill>
        <p:spPr>
          <a:xfrm>
            <a:off x="2630520" y="4386240"/>
            <a:ext cx="6249960" cy="18446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6"/>
          <p:cNvSpPr/>
          <p:nvPr/>
        </p:nvSpPr>
        <p:spPr>
          <a:xfrm>
            <a:off x="6543720" y="3657600"/>
            <a:ext cx="1650960" cy="449280"/>
          </a:xfrm>
          <a:prstGeom prst="rect">
            <a:avLst/>
          </a:prstGeom>
          <a:solidFill>
            <a:srgbClr val="ffff00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ck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1290600" y="4446720"/>
            <a:ext cx="984240" cy="366120"/>
          </a:xfrm>
          <a:prstGeom prst="rect">
            <a:avLst/>
          </a:prstGeom>
          <a:solidFill>
            <a:srgbClr val="ffff00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9"/>
          <p:cNvSpPr/>
          <p:nvPr/>
        </p:nvSpPr>
        <p:spPr>
          <a:xfrm rot="8747400">
            <a:off x="6675480" y="44715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0"/>
          <p:cNvSpPr/>
          <p:nvPr/>
        </p:nvSpPr>
        <p:spPr>
          <a:xfrm rot="8747400">
            <a:off x="7045200" y="477792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9"/>
                                      </p:cond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evt="end">
                                        <p:tn val="64"/>
                                      </p:cond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Каб"/>
          <p:cNvPicPr/>
          <p:nvPr/>
        </p:nvPicPr>
        <p:blipFill>
          <a:blip r:embed="rId2"/>
          <a:stretch/>
        </p:blipFill>
        <p:spPr>
          <a:xfrm>
            <a:off x="1166760" y="2173320"/>
            <a:ext cx="4640400" cy="348120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6"/>
          <p:cNvSpPr/>
          <p:nvPr/>
        </p:nvSpPr>
        <p:spPr>
          <a:xfrm>
            <a:off x="1809720" y="500040"/>
            <a:ext cx="5311800" cy="519120"/>
          </a:xfrm>
          <a:prstGeom prst="wedgeRoundRectCallout">
            <a:avLst>
              <a:gd name="adj1" fmla="val 8217"/>
              <a:gd name="adj2" fmla="val -351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Готово. Вы и это смог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WordArt 7"/>
          <p:cNvSpPr txBox="1"/>
          <p:nvPr/>
        </p:nvSpPr>
        <p:spPr>
          <a:xfrm>
            <a:off x="7399440" y="565200"/>
            <a:ext cx="14414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ЗАКОНЧИТЬ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88" name="WordArt 8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90" name="AutoShape 5"/>
          <p:cNvSpPr/>
          <p:nvPr/>
        </p:nvSpPr>
        <p:spPr>
          <a:xfrm>
            <a:off x="1916280" y="2847960"/>
            <a:ext cx="5492520" cy="2403360"/>
          </a:xfrm>
          <a:prstGeom prst="wedgeRoundRectCallout">
            <a:avLst>
              <a:gd name="adj1" fmla="val 6300"/>
              <a:gd name="adj2" fmla="val -3018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Ещё одна вещь, которую мы сейчас рассмотрим – это таблицы. Для работы с ними предусмотрена специальная кнопка в строке меню. Как вставить таблицу: «Таблица» - «Добавить» - «Таблиц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WordArt 6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pic>
        <p:nvPicPr>
          <p:cNvPr id="392" name="Picture 7" descr=""/>
          <p:cNvPicPr/>
          <p:nvPr/>
        </p:nvPicPr>
        <p:blipFill>
          <a:blip r:embed="rId2"/>
          <a:srcRect l="33146" t="6803" r="47848" b="71729"/>
          <a:stretch/>
        </p:blipFill>
        <p:spPr>
          <a:xfrm>
            <a:off x="3011400" y="476280"/>
            <a:ext cx="1738440" cy="14731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"/>
          <p:cNvPicPr/>
          <p:nvPr/>
        </p:nvPicPr>
        <p:blipFill>
          <a:blip r:embed="rId3"/>
          <a:srcRect l="52157" t="11244" r="31374" b="63351"/>
          <a:stretch/>
        </p:blipFill>
        <p:spPr>
          <a:xfrm>
            <a:off x="4740120" y="811080"/>
            <a:ext cx="1506600" cy="17431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9" descr=""/>
          <p:cNvPicPr/>
          <p:nvPr/>
        </p:nvPicPr>
        <p:blipFill>
          <a:blip r:embed="rId4"/>
          <a:srcRect l="32796" t="3357" r="60179" b="93178"/>
          <a:stretch/>
        </p:blipFill>
        <p:spPr>
          <a:xfrm>
            <a:off x="2987640" y="228600"/>
            <a:ext cx="642960" cy="237960"/>
          </a:xfrm>
          <a:prstGeom prst="rect">
            <a:avLst/>
          </a:prstGeom>
          <a:ln w="0">
            <a:noFill/>
          </a:ln>
        </p:spPr>
      </p:pic>
      <p:sp>
        <p:nvSpPr>
          <p:cNvPr id="395" name="AutoShape 10"/>
          <p:cNvSpPr/>
          <p:nvPr/>
        </p:nvSpPr>
        <p:spPr>
          <a:xfrm rot="14240400">
            <a:off x="3433320" y="339120"/>
            <a:ext cx="579240" cy="471600"/>
          </a:xfrm>
          <a:prstGeom prst="rightArrow">
            <a:avLst>
              <a:gd name="adj1" fmla="val 56880"/>
              <a:gd name="adj2" fmla="val 68838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1"/>
          <p:cNvSpPr/>
          <p:nvPr/>
        </p:nvSpPr>
        <p:spPr>
          <a:xfrm rot="14240400">
            <a:off x="4295520" y="966240"/>
            <a:ext cx="579240" cy="471240"/>
          </a:xfrm>
          <a:prstGeom prst="rightArrow">
            <a:avLst>
              <a:gd name="adj1" fmla="val 56880"/>
              <a:gd name="adj2" fmla="val 6889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2"/>
          <p:cNvSpPr/>
          <p:nvPr/>
        </p:nvSpPr>
        <p:spPr>
          <a:xfrm rot="14240400">
            <a:off x="5962320" y="1001160"/>
            <a:ext cx="579240" cy="471600"/>
          </a:xfrm>
          <a:prstGeom prst="rightArrow">
            <a:avLst>
              <a:gd name="adj1" fmla="val 56880"/>
              <a:gd name="adj2" fmla="val 68838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4" dur="1" fill="hold">
                                    <p:stCondLst>
                                      <p:cond evt="end">
                                        <p:tn val="602"/>
                                      </p:cond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0"/>
                            </p:stCondLst>
                            <p:childTnLst>
                              <p:par>
                                <p:cTn id="61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16" dur="1" fill="hold">
                                    <p:stCondLst>
                                      <p:cond evt="end">
                                        <p:tn val="614"/>
                                      </p:cond>
                                    </p:stCondLst>
                                  </p:cTn>
                                  <p:tgtEl>
                                    <p:spTgt spid="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6" dur="1" fill="hold">
                                    <p:stCondLst>
                                      <p:cond evt="end">
                                        <p:tn val="624"/>
                                      </p:cond>
                                    </p:stCondLst>
                                  </p:cTn>
                                  <p:tgtEl>
                                    <p:spTgt spid="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"/>
          <p:cNvPicPr/>
          <p:nvPr/>
        </p:nvPicPr>
        <p:blipFill>
          <a:blip r:embed="rId2"/>
          <a:srcRect l="29811" t="30847" r="32154" b="19389"/>
          <a:stretch/>
        </p:blipFill>
        <p:spPr>
          <a:xfrm>
            <a:off x="2762280" y="2274840"/>
            <a:ext cx="3478320" cy="3414600"/>
          </a:xfrm>
          <a:prstGeom prst="rect">
            <a:avLst/>
          </a:prstGeom>
          <a:ln w="0">
            <a:noFill/>
          </a:ln>
        </p:spPr>
      </p:pic>
      <p:sp>
        <p:nvSpPr>
          <p:cNvPr id="400" name="AutoShape 6"/>
          <p:cNvSpPr/>
          <p:nvPr/>
        </p:nvSpPr>
        <p:spPr>
          <a:xfrm>
            <a:off x="965160" y="588960"/>
            <a:ext cx="7213680" cy="1631880"/>
          </a:xfrm>
          <a:prstGeom prst="wedgeRoundRectCallout">
            <a:avLst>
              <a:gd name="adj1" fmla="val 11268"/>
              <a:gd name="adj2" fmla="val 143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окне «Вставка таблицы» в строках «Число столбцов» и «Число строк» вставляем необходимое их количество (в нашем случае 6 и 16 соответственно). Щёлкаем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7"/>
          <p:cNvSpPr/>
          <p:nvPr/>
        </p:nvSpPr>
        <p:spPr>
          <a:xfrm rot="14240400">
            <a:off x="5943600" y="290160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8"/>
          <p:cNvSpPr/>
          <p:nvPr/>
        </p:nvSpPr>
        <p:spPr>
          <a:xfrm rot="14240400">
            <a:off x="5927760" y="324288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9"/>
          <p:cNvSpPr/>
          <p:nvPr/>
        </p:nvSpPr>
        <p:spPr>
          <a:xfrm rot="14240400">
            <a:off x="4706640" y="5430240"/>
            <a:ext cx="579240" cy="471240"/>
          </a:xfrm>
          <a:prstGeom prst="rightArrow">
            <a:avLst>
              <a:gd name="adj1" fmla="val 56880"/>
              <a:gd name="adj2" fmla="val 6889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WordArt 10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6" dur="1" fill="hold">
                                    <p:stCondLst>
                                      <p:cond evt="end">
                                        <p:tn val="634"/>
                                      </p:cond>
                                    </p:stCondLst>
                                  </p:cTn>
                                  <p:tgtEl>
                                    <p:spTgt spid="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0"/>
                            </p:stCondLst>
                            <p:childTnLst>
                              <p:par>
                                <p:cTn id="64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3" dur="1" fill="hold">
                                    <p:stCondLst>
                                      <p:cond evt="end">
                                        <p:tn val="641"/>
                                      </p:cond>
                                    </p:stCondLst>
                                  </p:cTn>
                                  <p:tgtEl>
                                    <p:spTgt spid="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0" dur="1" fill="hold">
                                    <p:stCondLst>
                                      <p:cond evt="end">
                                        <p:tn val="648"/>
                                      </p:cond>
                                    </p:stCondLst>
                                  </p:cTn>
                                  <p:tgtEl>
                                    <p:spTgt spid="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"/>
          <p:cNvPicPr/>
          <p:nvPr/>
        </p:nvPicPr>
        <p:blipFill>
          <a:blip r:embed="rId2"/>
          <a:srcRect l="22412" t="29386" r="21486" b="25600"/>
          <a:stretch/>
        </p:blipFill>
        <p:spPr>
          <a:xfrm>
            <a:off x="1249200" y="2324160"/>
            <a:ext cx="6758280" cy="3294000"/>
          </a:xfrm>
          <a:prstGeom prst="rect">
            <a:avLst/>
          </a:prstGeom>
          <a:ln w="0">
            <a:noFill/>
          </a:ln>
        </p:spPr>
      </p:pic>
      <p:sp>
        <p:nvSpPr>
          <p:cNvPr id="407" name="AutoShape 6"/>
          <p:cNvSpPr/>
          <p:nvPr/>
        </p:nvSpPr>
        <p:spPr>
          <a:xfrm>
            <a:off x="965160" y="588960"/>
            <a:ext cx="7213680" cy="932040"/>
          </a:xfrm>
          <a:prstGeom prst="wedgeRoundRectCallout">
            <a:avLst>
              <a:gd name="adj1" fmla="val 11268"/>
              <a:gd name="adj2" fmla="val 689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Это и есть таблица. В её ячейки можно  вставлять текст, рисунок или другую табл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WordArt 59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"/>
          <p:cNvPicPr/>
          <p:nvPr/>
        </p:nvPicPr>
        <p:blipFill>
          <a:blip r:embed="rId2"/>
          <a:srcRect l="32796" t="3357" r="60179" b="93178"/>
          <a:stretch/>
        </p:blipFill>
        <p:spPr>
          <a:xfrm>
            <a:off x="2987640" y="228600"/>
            <a:ext cx="642960" cy="2379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"/>
          <p:cNvPicPr/>
          <p:nvPr/>
        </p:nvPicPr>
        <p:blipFill>
          <a:blip r:embed="rId3"/>
          <a:srcRect l="33146" t="6803" r="47848" b="71729"/>
          <a:stretch/>
        </p:blipFill>
        <p:spPr>
          <a:xfrm>
            <a:off x="3011400" y="476280"/>
            <a:ext cx="1738440" cy="1473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9" descr=""/>
          <p:cNvPicPr/>
          <p:nvPr/>
        </p:nvPicPr>
        <p:blipFill>
          <a:blip r:embed="rId4"/>
          <a:srcRect l="52157" t="11244" r="31374" b="63351"/>
          <a:stretch/>
        </p:blipFill>
        <p:spPr>
          <a:xfrm>
            <a:off x="4740120" y="811080"/>
            <a:ext cx="1506600" cy="17431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"/>
          <p:cNvPicPr/>
          <p:nvPr/>
        </p:nvPicPr>
        <p:blipFill>
          <a:blip r:embed="rId5"/>
          <a:srcRect l="33736" t="12214" r="48127" b="85014"/>
          <a:stretch/>
        </p:blipFill>
        <p:spPr>
          <a:xfrm>
            <a:off x="3073320" y="849240"/>
            <a:ext cx="1658880" cy="190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1" descr="">
            <a:hlinkClick r:id="" action="ppaction://hlinkshowjump?jump=nextslide"/>
          </p:cNvPr>
          <p:cNvPicPr/>
          <p:nvPr/>
        </p:nvPicPr>
        <p:blipFill>
          <a:blip r:embed="rId6"/>
          <a:srcRect l="52157" t="12082" r="31790" b="85008"/>
          <a:stretch/>
        </p:blipFill>
        <p:spPr>
          <a:xfrm>
            <a:off x="4741920" y="863640"/>
            <a:ext cx="1468440" cy="200160"/>
          </a:xfrm>
          <a:prstGeom prst="rect">
            <a:avLst/>
          </a:prstGeom>
          <a:ln w="0">
            <a:noFill/>
          </a:ln>
        </p:spPr>
      </p:pic>
      <p:sp>
        <p:nvSpPr>
          <p:cNvPr id="415" name="AutoShape 12"/>
          <p:cNvSpPr/>
          <p:nvPr/>
        </p:nvSpPr>
        <p:spPr>
          <a:xfrm>
            <a:off x="1000080" y="3027240"/>
            <a:ext cx="7213680" cy="932040"/>
          </a:xfrm>
          <a:prstGeom prst="wedgeRoundRectCallout">
            <a:avLst>
              <a:gd name="adj1" fmla="val 11532"/>
              <a:gd name="adj2" fmla="val -76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попрактикуемся. Попробуйте открыть окно «Вставка таблиц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3" descr=""/>
          <p:cNvPicPr/>
          <p:nvPr/>
        </p:nvPicPr>
        <p:blipFill>
          <a:blip r:embed="rId7"/>
          <a:srcRect l="33004" t="3496" r="59848" b="93159"/>
          <a:stretch/>
        </p:blipFill>
        <p:spPr>
          <a:xfrm>
            <a:off x="2978280" y="237960"/>
            <a:ext cx="653760" cy="2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"/>
          <p:cNvPicPr/>
          <p:nvPr/>
        </p:nvPicPr>
        <p:blipFill>
          <a:blip r:embed="rId2"/>
          <a:srcRect l="29811" t="30847" r="32154" b="19389"/>
          <a:stretch/>
        </p:blipFill>
        <p:spPr>
          <a:xfrm>
            <a:off x="2260440" y="2181240"/>
            <a:ext cx="3478320" cy="341460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6"/>
          <p:cNvSpPr/>
          <p:nvPr/>
        </p:nvSpPr>
        <p:spPr>
          <a:xfrm>
            <a:off x="1616040" y="795240"/>
            <a:ext cx="5746680" cy="527040"/>
          </a:xfrm>
          <a:prstGeom prst="wedgeRoundRectCallout">
            <a:avLst>
              <a:gd name="adj1" fmla="val 17263"/>
              <a:gd name="adj2" fmla="val 2078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десь выберите число столбцов – 7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4654440" y="2763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4656240" y="2763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1"/>
          <p:cNvSpPr/>
          <p:nvPr/>
        </p:nvSpPr>
        <p:spPr>
          <a:xfrm>
            <a:off x="4648320" y="277020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4654440" y="3060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7" descr=""/>
          <p:cNvPicPr/>
          <p:nvPr/>
        </p:nvPicPr>
        <p:blipFill>
          <a:blip r:embed="rId3"/>
          <a:srcRect l="64676" t="39106" r="33873" b="59931"/>
          <a:stretch/>
        </p:blipFill>
        <p:spPr>
          <a:xfrm>
            <a:off x="5452920" y="2754360"/>
            <a:ext cx="133560" cy="666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8" descr="">
            <a:hlinkClick r:id="" action="ppaction://hlinkshowjump?jump=nextslide"/>
          </p:cNvPr>
          <p:cNvPicPr/>
          <p:nvPr/>
        </p:nvPicPr>
        <p:blipFill>
          <a:blip r:embed="rId4"/>
          <a:srcRect l="64676" t="39106" r="33873" b="59931"/>
          <a:stretch/>
        </p:blipFill>
        <p:spPr>
          <a:xfrm>
            <a:off x="5448240" y="2749680"/>
            <a:ext cx="133560" cy="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671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6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"/>
          <p:cNvPicPr/>
          <p:nvPr/>
        </p:nvPicPr>
        <p:blipFill>
          <a:blip r:embed="rId2"/>
          <a:srcRect l="29811" t="30847" r="32154" b="19389"/>
          <a:stretch/>
        </p:blipFill>
        <p:spPr>
          <a:xfrm>
            <a:off x="2260440" y="2181240"/>
            <a:ext cx="3478320" cy="3414600"/>
          </a:xfrm>
          <a:prstGeom prst="rect">
            <a:avLst/>
          </a:prstGeom>
          <a:ln w="0">
            <a:noFill/>
          </a:ln>
        </p:spPr>
      </p:pic>
      <p:sp>
        <p:nvSpPr>
          <p:cNvPr id="428" name="AutoShape 8"/>
          <p:cNvSpPr/>
          <p:nvPr/>
        </p:nvSpPr>
        <p:spPr>
          <a:xfrm>
            <a:off x="1616040" y="795240"/>
            <a:ext cx="5746680" cy="506520"/>
          </a:xfrm>
          <a:prstGeom prst="wedgeRoundRectCallout">
            <a:avLst>
              <a:gd name="adj1" fmla="val 17263"/>
              <a:gd name="adj2" fmla="val 236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и число строк –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9"/>
          <p:cNvSpPr/>
          <p:nvPr/>
        </p:nvSpPr>
        <p:spPr>
          <a:xfrm>
            <a:off x="5921280" y="2589120"/>
            <a:ext cx="2176560" cy="463680"/>
          </a:xfrm>
          <a:prstGeom prst="wedgeRoundRectCallout">
            <a:avLst>
              <a:gd name="adj1" fmla="val 4486"/>
              <a:gd name="adj2" fmla="val -58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одтверд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4654440" y="2763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4656240" y="2763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2"/>
          <p:cNvSpPr/>
          <p:nvPr/>
        </p:nvSpPr>
        <p:spPr>
          <a:xfrm>
            <a:off x="4648320" y="277020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3"/>
          <p:cNvSpPr/>
          <p:nvPr/>
        </p:nvSpPr>
        <p:spPr>
          <a:xfrm>
            <a:off x="4654440" y="3060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4"/>
          <p:cNvSpPr/>
          <p:nvPr/>
        </p:nvSpPr>
        <p:spPr>
          <a:xfrm>
            <a:off x="4648320" y="3060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5"/>
          <p:cNvSpPr/>
          <p:nvPr/>
        </p:nvSpPr>
        <p:spPr>
          <a:xfrm>
            <a:off x="4653000" y="3062160"/>
            <a:ext cx="1904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16" descr=""/>
          <p:cNvPicPr/>
          <p:nvPr/>
        </p:nvPicPr>
        <p:blipFill>
          <a:blip r:embed="rId3"/>
          <a:srcRect l="64676" t="39106" r="33873" b="59931"/>
          <a:stretch/>
        </p:blipFill>
        <p:spPr>
          <a:xfrm>
            <a:off x="5452920" y="2754360"/>
            <a:ext cx="133560" cy="666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7" descr=""/>
          <p:cNvPicPr/>
          <p:nvPr/>
        </p:nvPicPr>
        <p:blipFill>
          <a:blip r:embed="rId4"/>
          <a:srcRect l="64676" t="39106" r="33873" b="59931"/>
          <a:stretch/>
        </p:blipFill>
        <p:spPr>
          <a:xfrm>
            <a:off x="5448240" y="2749680"/>
            <a:ext cx="133560" cy="666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8" descr=""/>
          <p:cNvPicPr/>
          <p:nvPr/>
        </p:nvPicPr>
        <p:blipFill>
          <a:blip r:embed="rId5"/>
          <a:srcRect l="64676" t="39106" r="33873" b="59931"/>
          <a:stretch/>
        </p:blipFill>
        <p:spPr>
          <a:xfrm>
            <a:off x="5451480" y="3048120"/>
            <a:ext cx="133200" cy="666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9" descr=""/>
          <p:cNvPicPr/>
          <p:nvPr/>
        </p:nvPicPr>
        <p:blipFill>
          <a:blip r:embed="rId6"/>
          <a:srcRect l="64676" t="39106" r="33873" b="59931"/>
          <a:stretch/>
        </p:blipFill>
        <p:spPr>
          <a:xfrm>
            <a:off x="5450040" y="3051000"/>
            <a:ext cx="133200" cy="669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0" descr="">
            <a:hlinkClick r:id="" action="ppaction://hlinkshowjump?jump=nextslide"/>
          </p:cNvPr>
          <p:cNvPicPr/>
          <p:nvPr/>
        </p:nvPicPr>
        <p:blipFill>
          <a:blip r:embed="rId7"/>
          <a:srcRect l="43927" t="75477" r="45765" b="21865"/>
          <a:stretch/>
        </p:blipFill>
        <p:spPr>
          <a:xfrm>
            <a:off x="3552840" y="5245200"/>
            <a:ext cx="94284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71" descr=""/>
          <p:cNvPicPr/>
          <p:nvPr/>
        </p:nvPicPr>
        <p:blipFill>
          <a:blip r:embed="rId2"/>
          <a:srcRect l="4186" t="26028" r="6510" b="22161"/>
          <a:stretch/>
        </p:blipFill>
        <p:spPr>
          <a:xfrm>
            <a:off x="1106640" y="2125800"/>
            <a:ext cx="6995880" cy="3046320"/>
          </a:xfrm>
          <a:prstGeom prst="rect">
            <a:avLst/>
          </a:prstGeom>
          <a:ln w="0">
            <a:noFill/>
          </a:ln>
        </p:spPr>
      </p:pic>
      <p:sp>
        <p:nvSpPr>
          <p:cNvPr id="443" name="AutoShape 472"/>
          <p:cNvSpPr/>
          <p:nvPr/>
        </p:nvSpPr>
        <p:spPr>
          <a:xfrm>
            <a:off x="1616040" y="795240"/>
            <a:ext cx="5746680" cy="506520"/>
          </a:xfrm>
          <a:prstGeom prst="wedgeRoundRectCallout">
            <a:avLst>
              <a:gd name="adj1" fmla="val 17263"/>
              <a:gd name="adj2" fmla="val 236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Таблица вставл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WordArt 473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WordArt 4"/>
          <p:cNvSpPr txBox="1"/>
          <p:nvPr/>
        </p:nvSpPr>
        <p:spPr>
          <a:xfrm>
            <a:off x="222120" y="4646520"/>
            <a:ext cx="860904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Вы действительно хотите выйти?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46" name="Rectangle 5">
            <a:hlinkClick r:id="" action="ppaction://hlinkshowjump?jump=endshow"/>
          </p:cNvPr>
          <p:cNvSpPr/>
          <p:nvPr/>
        </p:nvSpPr>
        <p:spPr>
          <a:xfrm>
            <a:off x="2760840" y="5627520"/>
            <a:ext cx="1344600" cy="57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5057640" y="5629320"/>
            <a:ext cx="1344600" cy="57456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WordArt 7"/>
          <p:cNvSpPr txBox="1"/>
          <p:nvPr/>
        </p:nvSpPr>
        <p:spPr>
          <a:xfrm>
            <a:off x="399960" y="1144440"/>
            <a:ext cx="8366040" cy="266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Впереди раб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с таблицами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WordArt 6"/>
          <p:cNvSpPr txBox="1"/>
          <p:nvPr/>
        </p:nvSpPr>
        <p:spPr>
          <a:xfrm>
            <a:off x="574560" y="1035000"/>
            <a:ext cx="80852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Впереди упражн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по вставке рисунков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</p:txBody>
      </p:sp>
      <p:sp>
        <p:nvSpPr>
          <p:cNvPr id="450" name="Rectangle 7">
            <a:hlinkClick r:id="" action="ppaction://hlinkshowjump?jump=endshow"/>
          </p:cNvPr>
          <p:cNvSpPr/>
          <p:nvPr/>
        </p:nvSpPr>
        <p:spPr>
          <a:xfrm>
            <a:off x="2760840" y="5627520"/>
            <a:ext cx="1344600" cy="57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9"/>
          <p:cNvSpPr/>
          <p:nvPr/>
        </p:nvSpPr>
        <p:spPr>
          <a:xfrm>
            <a:off x="5057640" y="5629320"/>
            <a:ext cx="1344600" cy="57456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WordArt 11"/>
          <p:cNvSpPr txBox="1"/>
          <p:nvPr/>
        </p:nvSpPr>
        <p:spPr>
          <a:xfrm>
            <a:off x="222120" y="4646520"/>
            <a:ext cx="860904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Вы действительно хотите выйти?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3" name="WordArt 5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rcRect l="21477" t="11332" r="57849" b="62602"/>
          <a:stretch/>
        </p:blipFill>
        <p:spPr>
          <a:xfrm>
            <a:off x="1968480" y="463680"/>
            <a:ext cx="1890720" cy="178884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/>
          <p:cNvSpPr/>
          <p:nvPr/>
        </p:nvSpPr>
        <p:spPr>
          <a:xfrm>
            <a:off x="539640" y="2664000"/>
            <a:ext cx="8147160" cy="2031840"/>
          </a:xfrm>
          <a:prstGeom prst="wedgeRoundRectCallout">
            <a:avLst>
              <a:gd name="adj1" fmla="val -35152"/>
              <a:gd name="adj2" fmla="val -357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’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е есть возможность выбирать шрифты, их размер, начертание. Первый способ (запомните его – практика будет именно по этому способу): щёлкаете по кнопке «Формат» в строке меню и выбираете в появившемся меню «Шрифт...»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8"/>
          <p:cNvSpPr/>
          <p:nvPr/>
        </p:nvSpPr>
        <p:spPr>
          <a:xfrm rot="14008200">
            <a:off x="2253240" y="38484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9"/>
          <p:cNvSpPr/>
          <p:nvPr/>
        </p:nvSpPr>
        <p:spPr>
          <a:xfrm rot="14008200">
            <a:off x="3472560" y="6354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evt="end">
                                        <p:tn val="76"/>
                                      </p:cond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evt="end">
                                        <p:tn val="85"/>
                                      </p:cond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4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54" name="WordArt 5"/>
          <p:cNvSpPr txBox="1"/>
          <p:nvPr/>
        </p:nvSpPr>
        <p:spPr>
          <a:xfrm>
            <a:off x="387360" y="1017720"/>
            <a:ext cx="8369280" cy="38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На эт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первое занятие закончено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до новых встреч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455" name="WordArt 6"/>
          <p:cNvSpPr txBox="1"/>
          <p:nvPr/>
        </p:nvSpPr>
        <p:spPr>
          <a:xfrm>
            <a:off x="3740040" y="5199120"/>
            <a:ext cx="15750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Коне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WordArt 4"/>
          <p:cNvSpPr txBox="1"/>
          <p:nvPr/>
        </p:nvSpPr>
        <p:spPr>
          <a:xfrm>
            <a:off x="222120" y="4646520"/>
            <a:ext cx="860904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Вы действительно хотите выйти?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57" name="WordArt 6"/>
          <p:cNvSpPr txBox="1"/>
          <p:nvPr/>
        </p:nvSpPr>
        <p:spPr>
          <a:xfrm>
            <a:off x="574560" y="1035000"/>
            <a:ext cx="80852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Впереди упражн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по вставке рамки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</p:txBody>
      </p:sp>
      <p:sp>
        <p:nvSpPr>
          <p:cNvPr id="458" name="Rectangle 7">
            <a:hlinkClick r:id="" action="ppaction://hlinkshowjump?jump=endshow"/>
          </p:cNvPr>
          <p:cNvSpPr/>
          <p:nvPr/>
        </p:nvSpPr>
        <p:spPr>
          <a:xfrm>
            <a:off x="2760840" y="5627520"/>
            <a:ext cx="1344600" cy="57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5057640" y="5629320"/>
            <a:ext cx="1344600" cy="57456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rcRect l="22573" t="12031" r="25488" b="12403"/>
          <a:stretch/>
        </p:blipFill>
        <p:spPr>
          <a:xfrm>
            <a:off x="1955880" y="1344600"/>
            <a:ext cx="4749840" cy="51865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/>
          <p:cNvSpPr/>
          <p:nvPr/>
        </p:nvSpPr>
        <p:spPr>
          <a:xfrm>
            <a:off x="235080" y="262080"/>
            <a:ext cx="7770600" cy="992160"/>
          </a:xfrm>
          <a:prstGeom prst="wedgeRoundRectCallout">
            <a:avLst>
              <a:gd name="adj1" fmla="val -16680"/>
              <a:gd name="adj2" fmla="val 2424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окне «Шрифт» выбираем всё, что необходимо: шрифт, начертание, размер и щёлкаем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 rot="14008200">
            <a:off x="3347280" y="25182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 rot="14008200">
            <a:off x="5176080" y="24832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 rot="14008200">
            <a:off x="6179400" y="30927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 rot="8422800">
            <a:off x="5374800" y="583344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1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evt="end">
                                        <p:tn val="94"/>
                                      </p:cond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evt="end">
                                        <p:tn val="100"/>
                                      </p:cond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evt="end">
                                        <p:tn val="106"/>
                                      </p:cond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evt="end">
                                        <p:tn val="112"/>
                                      </p:cond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5"/>
          <p:cNvSpPr/>
          <p:nvPr/>
        </p:nvSpPr>
        <p:spPr>
          <a:xfrm>
            <a:off x="349200" y="2664000"/>
            <a:ext cx="8496360" cy="1741320"/>
          </a:xfrm>
          <a:prstGeom prst="wedgeRoundRectCallout">
            <a:avLst>
              <a:gd name="adj1" fmla="val -33518"/>
              <a:gd name="adj2" fmla="val -3331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торой способ: щёлкаем по кнопкам панели инструментов «Форматирование»: «Шрифт» - чтобы выбрать тип шрифта, «Размер» - размер (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Ж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– полужирный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– курсив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Ч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-подчёркнуты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 rot="14008200">
            <a:off x="2486880" y="9594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 rot="14008200">
            <a:off x="3047040" y="97704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 rot="14008200">
            <a:off x="3332880" y="9846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 rot="14008200">
            <a:off x="3575880" y="99432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 rot="14008200">
            <a:off x="3842640" y="9640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11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evt="end">
                                        <p:tn val="121"/>
                                      </p:cond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evt="end">
                                        <p:tn val="127"/>
                                      </p:cond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evt="end">
                                        <p:tn val="133"/>
                                      </p:cond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evt="end">
                                        <p:tn val="139"/>
                                      </p:cond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evt="end">
                                        <p:tn val="145"/>
                                      </p:cond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13:35:33Z</dcterms:created>
  <dc:creator>информатика</dc:creator>
  <dc:description/>
  <dc:language>en-US</dc:language>
  <cp:lastModifiedBy>Owner</cp:lastModifiedBy>
  <dcterms:modified xsi:type="dcterms:W3CDTF">2012-05-29T13:14:42Z</dcterms:modified>
  <cp:revision>90</cp:revision>
  <dc:subject/>
  <dc:title>Слайд 1</dc:title>
</cp:coreProperties>
</file>